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36.png" ContentType="image/png"/>
  <Override PartName="/ppt/media/image37.png" ContentType="image/png"/>
  <Override PartName="/ppt/media/image38.png" ContentType="image/png"/>
  <Override PartName="/ppt/media/image41.wmf" ContentType="image/x-wmf"/>
  <Override PartName="/ppt/media/image3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34.png" ContentType="image/png"/>
  <Override PartName="/ppt/media/image45.wmf" ContentType="image/x-wmf"/>
  <Override PartName="/ppt/media/image10.wmf" ContentType="image/x-wmf"/>
  <Override PartName="/ppt/media/image25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7.wmf" ContentType="image/x-wmf"/>
  <Override PartName="/ppt/media/image12.png" ContentType="image/png"/>
  <Override PartName="/ppt/media/image33.png" ContentType="image/png"/>
  <Override PartName="/ppt/media/image30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13.png" ContentType="image/png"/>
  <Override PartName="/ppt/media/image48.wmf" ContentType="image/x-wmf"/>
  <Override PartName="/ppt/media/image11.wmf" ContentType="image/x-wmf"/>
  <Override PartName="/ppt/media/image26.png" ContentType="image/png"/>
  <Override PartName="/ppt/media/image2.png" ContentType="image/png"/>
  <Override PartName="/ppt/media/image3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176-D946-4493-8CD0-D0DB3723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03C-5259-4484-B582-16884092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0FC-7D9E-4A10-AE91-77684335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6C8-A5A9-4EA1-A864-CE5719EE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292-DF7E-4A09-8A35-20B901E0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535-CE57-40C2-81EC-2683F605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556-5498-42A7-B28A-293778FC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EA2-836B-405B-8660-D2FB283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9AE-3563-4CD8-8C80-3416B553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69A-E50A-4773-8B32-83AD3CC8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87E-69C8-4990-9D48-C3EEFEA4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C5E-3965-479E-A47D-051CF223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474D-07D2-471F-89A8-62252A2A2B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666880"/>
            <a:ext cx="4496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айд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курсу ле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работка САП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П.Норе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304920"/>
            <a:ext cx="739152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технический университет им. Н.Э.Баум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фед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истемы автоматизированного проектирования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5715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управления в промыш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066680"/>
            <a:ext cx="28954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RP -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nterprise Resource Plannin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RM -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ustomer Relationship Managemen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CM -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upply Chain Managemen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RP -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nufacturing Resource Plannin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ES -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nufacturing Execution Sys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4267080"/>
            <a:ext cx="320040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АСУ ТП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CADA -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upervisory Control ana Data Acquisi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NC -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mputer Numerical Contro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4287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57400" y="380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 подсисте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219320"/>
            <a:ext cx="784872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ендарное планирование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ое управление производство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сти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 производственных процесс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непрерывными производственными процесс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вис (обслуживание, ремонт, расходные материал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проект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персонал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информационными ресурс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о-экономическое управление, бухгалте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336600"/>
                </a:solidFill>
                <a:latin typeface="Times New Roman"/>
              </a:rPr>
              <a:t>Примеры  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ERP:  </a:t>
            </a:r>
            <a:r>
              <a:rPr b="0" lang="ru-RU" sz="2000" spc="-1" strike="noStrike">
                <a:solidFill>
                  <a:srgbClr val="336600"/>
                </a:solidFill>
                <a:latin typeface="Times New Roman"/>
              </a:rPr>
              <a:t>R3, BAAN, Oracle, J.D.Edwards, Axapta, Галактика, Парус, Флагман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P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деляют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RP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логистическая система,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зводственная исполнительная систем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ие поставкам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управление отношениями с заказчикам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294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09680" y="403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648320"/>
            <a:ext cx="784872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и оптимизация производственных процессов, управление ресурсами и расходом материалов, диагностика оборудования, управление качеств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336600"/>
                </a:solidFill>
                <a:latin typeface="Times New Roman"/>
              </a:rPr>
              <a:t>F/Ops, InTr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685800"/>
            <a:ext cx="769644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рование производства на заказ и на склад, сборка на заказ, розничная торговля. Определение поставщиков, проектирование складов, оптимизация доставки товаров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6600"/>
                </a:solidFill>
                <a:latin typeface="Times New Roman"/>
              </a:rPr>
              <a:t>Пример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6600"/>
                </a:solidFill>
                <a:latin typeface="Times New Roman"/>
              </a:rPr>
              <a:t>B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2286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2819520"/>
            <a:ext cx="777240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поведения заказчиков, разработка маркетинговых программ, ценообразование, рекла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336600"/>
                </a:solidFill>
                <a:latin typeface="Times New Roman"/>
              </a:rPr>
              <a:t>IBM WebSphere Commerce Su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0320" y="1371600"/>
            <a:ext cx="8943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ров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лан продаж и операций (заказы, объемы поставок, запасы, себестоимость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лендарный план (конкретизация на квартал - синтез расписаний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рафики производственных зада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Финансовое планиров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ие запас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ие снабже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струментальное обеспе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еративное управление производств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елирование проце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5760" y="6094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P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76720" y="609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У Т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94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17480" y="4683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6000" y="5410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1447920"/>
            <a:ext cx="457200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ункции SCA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 данны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арм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д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 прикладного П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процессов и отче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00"/>
                </a:solidFill>
                <a:latin typeface="Arial"/>
              </a:rPr>
              <a:t>Примеры: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  Citect, Trace Mod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Bridge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 реального времен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VMEbus, CompactPC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вые шины, Eth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1880" y="380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3920" y="209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960" y="2473200"/>
            <a:ext cx="60948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25520" y="209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49560" y="2473200"/>
            <a:ext cx="60948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440" y="468324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65760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6040" y="468324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30440" y="468324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9360" y="315900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720" y="422604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25320" y="4226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996920" y="4226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911320" y="4226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92360" y="392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67652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82520" y="254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54120" y="2549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8840" y="475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11120" y="475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32092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44640" y="23209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16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2743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ле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09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евая ш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1066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алитические модели СМ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1600200"/>
            <a:ext cx="83059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- вероятность нахождения системы в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состоя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Pi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- вероятность перехода из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остоян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2819520"/>
          <a:ext cx="7048800" cy="127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048800" cy="12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838080" y="3581280"/>
          <a:ext cx="6861240" cy="1925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581280"/>
                    <a:ext cx="68612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143000" y="5791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тационарном режи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952880" y="5565600"/>
          <a:ext cx="2340000" cy="965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5565600"/>
                    <a:ext cx="2340000" cy="9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724280" y="5562720"/>
            <a:ext cx="24386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859280" y="4437000"/>
          <a:ext cx="1755720" cy="952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4437000"/>
                    <a:ext cx="1755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643280" y="472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9800" y="2421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1920" y="304920"/>
            <a:ext cx="73389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. 2. Математическое обеспечение анализ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системном уров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0" y="1143000"/>
          <a:ext cx="4081320" cy="182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408132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228600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мер аналитической мо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824120" y="3197160"/>
          <a:ext cx="5686200" cy="993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4120" y="3197160"/>
                    <a:ext cx="568620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741320" y="4137120"/>
          <a:ext cx="5769000" cy="842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41320" y="4137120"/>
                    <a:ext cx="57690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447920" y="4876920"/>
          <a:ext cx="6476760" cy="174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4876920"/>
                    <a:ext cx="6476760" cy="17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396120" y="5292720"/>
          <a:ext cx="6381720" cy="15508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96120" y="5292720"/>
                    <a:ext cx="63817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838080" y="838080"/>
          <a:ext cx="3533760" cy="194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838080"/>
                    <a:ext cx="35337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057400" y="380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ытийное модел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5181480"/>
            <a:ext cx="63244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зыки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PSS, Simscript, GASP, SOL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граммы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PSS/PS, GPSS/H, Aren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48640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2280" y="304920"/>
            <a:ext cx="67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 (General Purpose Simulation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6560" y="762120"/>
            <a:ext cx="77702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336600"/>
                </a:solidFill>
                <a:latin typeface="Times New Roman"/>
              </a:rPr>
              <a:t>Основные стандартные числовые атрибу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 текуще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C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носительно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 жизни транзак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метр транзак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оритет транзак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СЧА$</a:t>
            </a: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идентификатор   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 или     СЧА </a:t>
            </a: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число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е устройст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м занятой памяти (средняя, максимальная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A,S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м свободной памя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на очереди текущая (средняя, максимальная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QA, Q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енн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Boolean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B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 real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анимая переменн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элемент матриц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MX(a,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 с равномерным распределени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число вхождений в устройство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ср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 пребы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нзактов в устройстве и памят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коэффициенты з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5240" y="1600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45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1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95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685800"/>
            <a:ext cx="693432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Введ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Математическое и программное обеспечения проектирования на системном уровн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Инструментальные средства концептуального проектирования автоматизированных сист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Автоматизация этапов жизненного цикла изделий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техноло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История развития вычислительной техники и информационных технолог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914400"/>
            <a:ext cx="59436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ависимый источник транзактов (случайный или детерминированный поток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TE A,B,C,D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исание функ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MMM  FUNCTION 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ординаты узловых точ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исимый источник (размн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нзактов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LIT A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борка транз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SSEMBLE A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ATHE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 транзактов из сист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RMINAT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28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и генерирования и ликвидации транза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796000" y="3502080"/>
          <a:ext cx="2963880" cy="14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3502080"/>
                    <a:ext cx="296388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5715000" y="16002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8640" y="6156360"/>
            <a:ext cx="24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1720" y="5257800"/>
            <a:ext cx="837072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   FUNCTION          RN1, 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/.1,.104/.2,.222/.3,.355/.4,.509/.5,.69/.7,1.2/.8,1.56/.88,2.12/.96,3.2/.9998,8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410080" y="1295280"/>
            <a:ext cx="33339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3200" y="914400"/>
            <a:ext cx="343764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исание устройств - заня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IZ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EMPT A,B,C,D,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освобо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RELEA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  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ерж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ANCE 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ие памя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ER 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вобождение памя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VE 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исание памя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MM  STORAGE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очере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UE 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ение очере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ART 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0560" y="1066680"/>
            <a:ext cx="223344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E             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12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304920"/>
            <a:ext cx="56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и обслуживания транза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4240" y="3124080"/>
            <a:ext cx="223344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  24,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UE           O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E             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ART         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 12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RMIN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1905120"/>
            <a:ext cx="2971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рамление мод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дание интервала моделир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TART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1523880"/>
            <a:ext cx="3809880" cy="35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ичный вид модели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P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писание функци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копителей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TE A,B,C,D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писание маршру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вижения транз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42600" y="76212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ация мо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5240" y="228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365200" y="5335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1143000"/>
          <a:ext cx="3441600" cy="46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344160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797280" y="2286000"/>
          <a:ext cx="5346720" cy="330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7280" y="2286000"/>
                    <a:ext cx="534672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33520" y="114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1143000"/>
            <a:ext cx="472464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Что является статическими устройствам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Что является транзактам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Имеются накопител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3520" y="1219320"/>
            <a:ext cx="426708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лов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XX  A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услов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 ,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ход по параметру транз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 P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ход по значению 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 FN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льтернатив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 BOTH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вновероят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 PICK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ход по вероя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 A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ход в циклических процедур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P 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990720"/>
            <a:ext cx="38862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заявок из системы без обслуживания в устройств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если длина очереди к нему превышает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TEST LE         Q$STR,4,L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QUEUE            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E             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ART          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 12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BL  TERMIN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3808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и перех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228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502080" y="992160"/>
          <a:ext cx="5902200" cy="47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2080" y="992160"/>
                    <a:ext cx="590220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3714840" cy="4273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600200"/>
                    <a:ext cx="37148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066680" y="914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4480" y="22860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 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125520" y="45720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143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1066680"/>
            <a:ext cx="411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зка пассажиров, приходящих к месту отправления  с интервалами 60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0 c. Маршрутные такси вместимостью 14 пассажиров отправляются с периодичностью 15 мин. Имеется один автобус вместимостью 120 человек, который подается, если очередь доходит до 120 человек. Автобус находится в пути «туда-обратно» 40 мин. Промоделировать 100 поездок такс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1143000"/>
            <a:ext cx="441972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U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   6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UE            P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L             Q$PASS,120,M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  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L             K14,Q$PASS,M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RART          PASS,Q$P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RMINATE  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M1 DEPART          PASS,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RMINATE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M2 DEPART         PASS,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E              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 2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 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   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92960" y="304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98160" y="3049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 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15238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4000" y="4894200"/>
            <a:ext cx="1995840" cy="9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IGN       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       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99072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вход производственной линии из независимых источников поступают изделия типов А и В. Они обрабатываются на станк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м изделия типа А обрабатываются на станке TOOL2, а изделия типа В - на TOOL3. Заданы законы распределения времен обработки и длительность моделирования (в модели соответствующие поля блоков не конкретизирован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838080"/>
            <a:ext cx="35049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U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  A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IGN           1,L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FER     ,L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  A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IGN           1,L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L1   SEIZE              TOO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 A,B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 TOO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FER    P,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3733920"/>
            <a:ext cx="358128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L2    SEIZE              TO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 A,B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 TO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FER    ,L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L3   SEIZE              TOO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 A,B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 TOO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LL4   TERMINATE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START           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228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73400" y="380880"/>
            <a:ext cx="62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т же пример 9 с другой реализацией мо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96600" y="914400"/>
            <a:ext cx="243936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U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  A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E              TOO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 A,B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 TOO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E              TO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 A,B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 TO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RMIN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6600" y="3429000"/>
            <a:ext cx="243936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  A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E              TOO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 A,B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 TOO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E              TOO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 A,B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 TOO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TERMINATE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START           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12952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бработка деталей типа В на станк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более высокий приоритет, чем обработка деталей типа А, т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сто операторов MM1 и MM2 нужно использовать операто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EMPT TOOL1 и RETURN TOOL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M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5480" y="44197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M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14400" y="1523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219320"/>
            <a:ext cx="41911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1066680"/>
            <a:ext cx="4191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1143000"/>
            <a:ext cx="3733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9560" y="22860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 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0440" y="838080"/>
            <a:ext cx="449316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асто приходится описыва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нзакты и устройства, свойст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ых можно представить в вид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ицы.Например, для транзак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 требуемые ресур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даются столбцом Xi таблиц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кт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             1       2  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р. А     10     36       4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р. В     25     12      70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мять       4      16   120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гда удобно использовать опис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йств транзактов с помощь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кретных функц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ь имеем поток транзактов с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о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вероятности их появ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,1, 0,6 и  0,3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ена  обслуживания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ройствах А и В и требуемые объе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мяти (память 500 блоков)  представлен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рех первых столбцах таблиц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28195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9092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004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392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092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040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304920"/>
            <a:ext cx="4343400" cy="61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IM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EXP     FUNCTION    RN1,C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 .  . 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TYPE  FUNCTION     RN1,D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1,1/.7,2/1,3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FUA     FUNCTION     P1,D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,10/2,36/3,4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FUB     FUNCTION     P1,D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,25/2,12/3,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FMEM FUNCTION    P1,D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,25/2,12/3,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MEM   STORAGE    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GENERATE  1000,FN$EX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SSIGN          1, FN$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ENTER           MEM,FN$F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EIZE             UNI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DVANCE     FN$F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RELEASE      UN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EIZE             UNIT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DVANCE     FN$F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RELEASE      UNI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LEAVE           MEM,FN$F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TERMINAT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TART            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9600" y="981000"/>
            <a:ext cx="800352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Times New Roman"/>
              </a:rPr>
              <a:t>Основная литератур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Норенков И.П. Основы автоматизированного проектирования.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.: МГТУ им. Н.Э.Баумана,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Томашевский В., Жданова Е. Имитационное моделиро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ред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PS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- М.: Бестселлер, 20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Маклаков С.В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Win, BPWi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средства разработ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х систем. - М.: Диалог-МИФИ, 19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Норенков И.П., Кузьмик П.К. Информационная поддер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х изделий. - М.: МГТУ им. Н.Э.Баумана,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Times New Roman"/>
              </a:rPr>
              <a:t>Дополнительная литератур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Бибило Н.П. Основ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HDL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.: Солон-Р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Колчин и др. Информационная поддержка жизнен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кла изделий. - М.: Анахарсис,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Материалы и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методика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F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язык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533520" y="1219320"/>
          <a:ext cx="81532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153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680840" y="22860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числительные бл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56080" y="3124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581280"/>
            <a:ext cx="365760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ерато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  VARIABLE   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VEVALUE A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  TABLE             A,B,C,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ULATE   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4960" y="785880"/>
            <a:ext cx="12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8920" y="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2514600" y="1066680"/>
          <a:ext cx="6440400" cy="55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4404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4725360" y="685800"/>
            <a:ext cx="12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00440" y="304920"/>
            <a:ext cx="72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и синхронизации движения транза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68920" y="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1371600"/>
            <a:ext cx="2286000" cy="32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ераторы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  MATC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TE_XX 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={S,R},   XX={LS,LR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ндеву по операторам MATCH моделируется для транзактов одного и того же семейств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517480" y="38088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PSS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 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1523880"/>
            <a:ext cx="381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ель сборки изделия из 30 деталей типа А и 16 деталей типа В, поступающих на сборочный участок от независимых экспоненциальных источников с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=  0,1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,04 ми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 Длительность сборочной операции находи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редела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2,18] ми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1371600"/>
            <a:ext cx="41148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990720"/>
            <a:ext cx="4572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U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M1  STORAGE      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M2  STORAGE  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      FUNCTION     RN1,C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0/.2,.22/.4,.51/.5,.6/.6,.92/.7,1.2/.8,1.61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9,2.3/.95,3/.99,4.6/.999,6.9/1,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   10, FN$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ER             MEM1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TRANSFER     , M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   25, FN$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ER             MEM1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MM  TEST E             S$MEM1,30,L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E             S$MEM2,16,L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SEIZE               M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       15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       M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LL      TERMINATE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START            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20968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сетей Пет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45080" y="189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8к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800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74320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ализ сетей Пет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600200"/>
            <a:ext cx="3048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вой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-ограниченн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опасн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храняем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ижим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352680" y="838080"/>
            <a:ext cx="4515120" cy="56865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245440" y="476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19320" y="20574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струментальные средства проектирования П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2209680"/>
            <a:ext cx="495288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ограммир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управления программным проект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ерифик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документир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росс-сред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4191120"/>
            <a:ext cx="815364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тодики концептуального проектир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иды опис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одел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функциональное (в частности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D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 2) поведенческое (процессное и перехода состояни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D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3) информационн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RD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4) Структурн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новные метод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F;   Йордана; Гейна-Сарсона; U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1523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E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304920"/>
            <a:ext cx="624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. 3. Инструментальные средства концептуального проектирования автоматизированных сист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28440" y="533520"/>
            <a:ext cx="7412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F0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ика функционального моде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2096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09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1371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34340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2057400"/>
            <a:ext cx="1143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1752480"/>
            <a:ext cx="914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1219320"/>
            <a:ext cx="129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ло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9720" y="2819520"/>
            <a:ext cx="13716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38680" y="1905120"/>
            <a:ext cx="1143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3809880"/>
            <a:ext cx="6858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37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8195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81280" y="3809880"/>
            <a:ext cx="6858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886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48320" y="3809880"/>
            <a:ext cx="6858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038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952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3809880"/>
            <a:ext cx="6858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1992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01992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08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5486400"/>
            <a:ext cx="685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5715000"/>
            <a:ext cx="38088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91440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5486400"/>
            <a:ext cx="685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81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98108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5486400"/>
            <a:ext cx="685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04812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5486400"/>
            <a:ext cx="685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290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1480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114800" y="5866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5486400"/>
            <a:ext cx="685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9588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0" y="5486400"/>
            <a:ext cx="685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62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16292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24680" y="5486400"/>
            <a:ext cx="685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438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29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8229600" y="586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610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209680" y="251460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7800" y="251460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33520" y="4191120"/>
            <a:ext cx="1752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43434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0600" y="45720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10080" y="4419720"/>
            <a:ext cx="32004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1295280"/>
            <a:ext cx="1676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PS 1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228600" y="1600200"/>
          <a:ext cx="845820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45820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2133720" y="457200"/>
            <a:ext cx="5029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ектирование САП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IDEF0-диаграмма 1-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3392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5240" y="2286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533520" y="1143000"/>
          <a:ext cx="815328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1286640" y="457200"/>
            <a:ext cx="63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IDEF0-диаграммы 2-го уровня для блока 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101800" y="2602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286640" y="380880"/>
            <a:ext cx="63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IDEF0-диаграммы 2-го уровня для блока А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380880" y="1143000"/>
          <a:ext cx="784872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784872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685800"/>
            <a:ext cx="701028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.1. Вве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и задачи кур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 уровня  проектирования сложных информацио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: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590920"/>
            <a:ext cx="2590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5760" y="2666880"/>
            <a:ext cx="25398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ень 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Ц издел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2895480"/>
            <a:ext cx="2819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666880"/>
            <a:ext cx="27432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ен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матизирован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50680" y="3200400"/>
            <a:ext cx="2754720" cy="86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ень компонен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матизиров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648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работка САП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47242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ругие дисциплины учебного пл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581280"/>
            <a:ext cx="68580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200040" y="3886200"/>
            <a:ext cx="60948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238880" y="4267080"/>
            <a:ext cx="15264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3886200"/>
            <a:ext cx="45720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57340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я развития ВТ и 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5734080"/>
            <a:ext cx="3311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508464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609480" y="1219320"/>
          <a:ext cx="8001000" cy="47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00100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1286640" y="457200"/>
            <a:ext cx="63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IDEF0-диаграммы 2-го уровня для блока А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2895480" y="1143000"/>
          <a:ext cx="579132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143000"/>
                    <a:ext cx="5791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91440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ики поведенческого моделиров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3124080" y="4191120"/>
          <a:ext cx="5334120" cy="25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191120"/>
                    <a:ext cx="5334120" cy="251280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533520" y="2743200"/>
            <a:ext cx="45720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520" y="1600200"/>
            <a:ext cx="9144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19810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1981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2743200"/>
            <a:ext cx="7596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2743200"/>
            <a:ext cx="7596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3809880"/>
            <a:ext cx="45720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3809880"/>
            <a:ext cx="7596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7520" y="4759200"/>
            <a:ext cx="45720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1200" y="4759200"/>
            <a:ext cx="763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143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880" y="2286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крес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3044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43000" y="2971800"/>
            <a:ext cx="175248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ет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л. И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056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164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16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6858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ные диаграмм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3733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D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6000" y="1143000"/>
            <a:ext cx="29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Примеры STD-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иаграм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905120" y="1905120"/>
          <a:ext cx="4647960" cy="23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05120"/>
                    <a:ext cx="464796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2971800" y="1600200"/>
            <a:ext cx="22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ханизм рандев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30492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ф-схемы алгоритмов с потоками управления легко преобразуются в процессн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F3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62320" y="4343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дноканальная однофаз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2362320" y="4809960"/>
          <a:ext cx="3571920" cy="17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809960"/>
                    <a:ext cx="357192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276720" y="18543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00400" y="762120"/>
          <a:ext cx="55641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762120"/>
                    <a:ext cx="55641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200400" y="3962520"/>
          <a:ext cx="5540400" cy="23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962520"/>
                    <a:ext cx="55404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99072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ика информационного моделиров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F1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371600"/>
            <a:ext cx="53316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6765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7621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2590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2680" y="1295280"/>
            <a:ext cx="1515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рибу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лючев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ключев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990720" y="14475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914400" y="19810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3200400"/>
            <a:ext cx="2286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90720" y="2666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и N-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3886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3809880"/>
            <a:ext cx="2286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4572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4495680"/>
            <a:ext cx="2286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181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90720" y="5105520"/>
            <a:ext cx="2286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3733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3124080"/>
            <a:ext cx="1828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 - люб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   M&gt;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   M= 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   М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иденти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880" y="57913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5715000"/>
            <a:ext cx="2286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38480" y="1219320"/>
          <a:ext cx="472464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219320"/>
                    <a:ext cx="472464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3200400" y="1600200"/>
          <a:ext cx="800280" cy="12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600200"/>
                    <a:ext cx="80028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6037200" y="3433680"/>
          <a:ext cx="260208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37200" y="3433680"/>
                    <a:ext cx="260208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3200400" y="3505320"/>
          <a:ext cx="2819520" cy="19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505320"/>
                    <a:ext cx="281952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1981080" y="3808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ML - Unified Model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0880" y="1295280"/>
            <a:ext cx="274320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аграмм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использования (use diagram) -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функц. опис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лассов (class)   -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информ. опис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ценариев (sequence) и кооперации (collaboration)  -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поведенч. опис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остояний (statecha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деятельности (activity)-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хожи на сеть Петри;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поведенч. опис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омпонентов и развертывания -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структ. описание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920" y="5638680"/>
            <a:ext cx="81532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: обобщения (наследования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грегирования  (И - часть-цело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ы: микропроцессор - интегральная схема; микропроцессор - компьюте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5638680" y="5638680"/>
            <a:ext cx="914400" cy="5763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318160" y="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544520" y="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143000" y="17524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менты диаграмм состояний и 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5335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шины: функци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)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ass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бъекты (sequence, collaboration), состояния (statechat, activity), компоненты типа программный модуль, БД и т.п. (component), аппаратные сред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90720" y="2666880"/>
            <a:ext cx="121896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907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70280" y="304812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27200" y="2216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70280" y="266688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оя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2666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19720" y="2666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43600" y="2819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93600" y="24382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[Услови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ействие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3657600"/>
            <a:ext cx="914400" cy="3049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952880" y="36576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19920" y="36576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386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199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199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6665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098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352680" y="335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5268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2120" y="2209680"/>
            <a:ext cx="4419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ояни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межуточное          начальное         конеч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2880" y="3048120"/>
            <a:ext cx="81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50120" y="327672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16800" y="3276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F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56960" y="4419720"/>
            <a:ext cx="68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менты диаграмм компонентов и разверты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3000" y="5334120"/>
            <a:ext cx="15228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3000" y="5486400"/>
            <a:ext cx="15228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21932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2193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1932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1932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5638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5334120"/>
            <a:ext cx="533520" cy="30456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911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8620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518148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0384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1911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34340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66880" y="5181480"/>
            <a:ext cx="152640" cy="15264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4379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43792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195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1680" y="480060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94320" y="495288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89240" y="48769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6240" y="49528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37880" y="487692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48520" y="518148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6248520" y="51051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6781680" y="510516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85800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3432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0080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4852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9343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22800" y="480060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рой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943600" y="5562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08160" y="5638680"/>
            <a:ext cx="29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десь размещаются компонен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44680" y="213372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х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4267080" y="2286000"/>
          <a:ext cx="4191120" cy="18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19112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447920" y="17524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ели структурного синте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2590920"/>
            <a:ext cx="4343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фологические таблиц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тернативные граф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чис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ертные сис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00200" y="41911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ы структурного синте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4648320"/>
            <a:ext cx="8153280" cy="11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 ветвей и границ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кальная оптимизация и поиск с запрета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остранение огранич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волюционные мето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81080" y="1600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4800" y="533520"/>
            <a:ext cx="69793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матическое обеспечение принятия ре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нцептуальном проектир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838080" y="990720"/>
          <a:ext cx="723924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23924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2971800" y="304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зовый 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05000" y="5102280"/>
          <a:ext cx="4013280" cy="115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5000" y="5102280"/>
                    <a:ext cx="40132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533520" y="1143000"/>
          <a:ext cx="8083440" cy="52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08344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2286000" y="152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орема шабл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609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(H,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- число схем Н в поколении 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роятности кроссовера и мутаций;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длина и порядок схемы Н;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длина хромосо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4724280" y="1295280"/>
          <a:ext cx="426744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295280"/>
                    <a:ext cx="4267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2133720" y="2286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етические алгорит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880" y="68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точеч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россо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24280" y="7621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ухточечный кроссов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52280" y="1295280"/>
          <a:ext cx="40770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295280"/>
                    <a:ext cx="4077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3733920" y="1981080"/>
          <a:ext cx="3840120" cy="243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1981080"/>
                    <a:ext cx="38401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1295280" y="3657600"/>
          <a:ext cx="4038840" cy="251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3657600"/>
                    <a:ext cx="40388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1371600" y="31240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тировка хромос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4419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том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70572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1981080"/>
            <a:ext cx="2743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486400" y="37339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43400" y="2590920"/>
            <a:ext cx="304812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562720" y="4723920"/>
            <a:ext cx="167616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7924680" y="2286000"/>
            <a:ext cx="53352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24480" y="5410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 корректиров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5562720" y="5638680"/>
            <a:ext cx="609480" cy="763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79320" y="1628640"/>
            <a:ext cx="7899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ный подход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ая дисциплина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ория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 (иначе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олог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отех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: Методы исследования, проектирован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ия в технических систем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новидности системного подход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ный, блочно-иерархический, объектно-ориентированны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, надсистема, подсистема, элемент, связь, сложная систем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метр, фазовая переменная, состояние, переменная состоян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дение (динамика), фазовые пространство и траектория, структу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системные свой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енаправленность, целостность и членимость, иерархич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е разделы системотехн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и моделирование, оптимизация и структурный синтез сист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54936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в методологию проектирования сложных сис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175248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 комбинирования эврист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3000" y="762120"/>
            <a:ext cx="6781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ы - номера эвристик, эвристика - совокупность правил выбора частных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029200" cy="183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8" name=""/>
          <p:cNvGraphicFramePr/>
          <p:nvPr/>
        </p:nvGraphicFramePr>
        <p:xfrm>
          <a:off x="911160" y="4422600"/>
          <a:ext cx="7878960" cy="1646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1160" y="4422600"/>
                    <a:ext cx="787896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>
            <a:off x="3962520" y="4648320"/>
            <a:ext cx="480060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 - минимальное время заверш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 - наибольшая производительн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2 - наименьшая це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95280" y="1676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тез расписаний. Задач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SP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97400" y="692280"/>
            <a:ext cx="57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методологические принцип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ектирования сложных сист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700280"/>
            <a:ext cx="75614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очно-иерархический подход: разделение на иерархические уровни и аспекты, итерационность проектир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сходящий стиль проектирован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нификация элементной баз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циональное сочетание централизации и децентрализации в распределенных системах. Многоагентный подх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умное ограничение сло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надежности использование методов проектирования контролепригодной аппаратуры, самотестир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2480" y="5029200"/>
            <a:ext cx="6172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пецифик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ональная, информационная, поведенческая, структур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533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дии проектирования автоматизированных сис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523880"/>
            <a:ext cx="380988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ОСТ 34.601-9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Формиров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бований к И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Разработка концеп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Эскизный проек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ехнический проек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формление рабоч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кумен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вод в эксплуат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1219320"/>
            <a:ext cx="4876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цептуальное проек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05520" y="1752480"/>
            <a:ext cx="3429000" cy="2238480"/>
            <a:chOff x="5105520" y="1752480"/>
            <a:chExt cx="3429000" cy="2238480"/>
          </a:xfrm>
        </p:grpSpPr>
        <p:sp>
          <p:nvSpPr>
            <p:cNvPr id="71" name=""/>
            <p:cNvSpPr/>
            <p:nvPr/>
          </p:nvSpPr>
          <p:spPr>
            <a:xfrm>
              <a:off x="5105520" y="1752480"/>
              <a:ext cx="3429000" cy="2238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бследование предприят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ект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 I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ект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 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Разработка Т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Эскизный проек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рототипиров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553080" y="2133720"/>
              <a:ext cx="152640" cy="533160"/>
              <a:chOff x="6553080" y="2133720"/>
              <a:chExt cx="152640" cy="533160"/>
            </a:xfrm>
          </p:grpSpPr>
          <p:sp>
            <p:nvSpPr>
              <p:cNvPr id="73" name=""/>
              <p:cNvSpPr/>
              <p:nvPr/>
            </p:nvSpPr>
            <p:spPr>
              <a:xfrm>
                <a:off x="6553080" y="2133720"/>
                <a:ext cx="152640" cy="1522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53080" y="2514600"/>
                <a:ext cx="152640" cy="1522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4038480" y="1447560"/>
            <a:ext cx="533160" cy="1904400"/>
            <a:chOff x="4038480" y="1447560"/>
            <a:chExt cx="533160" cy="1904400"/>
          </a:xfrm>
        </p:grpSpPr>
        <p:sp>
          <p:nvSpPr>
            <p:cNvPr id="76" name=""/>
            <p:cNvSpPr/>
            <p:nvPr/>
          </p:nvSpPr>
          <p:spPr>
            <a:xfrm flipV="1">
              <a:off x="4038480" y="327600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190760" y="2286000"/>
              <a:ext cx="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0760" y="2133360"/>
              <a:ext cx="15228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90760" y="220932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343040" y="144756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190760" y="1523880"/>
              <a:ext cx="0" cy="60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1447920"/>
              <a:ext cx="15228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828800" y="594360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дии разработки ПО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 122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00440" y="53352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енный цикл промышленных издел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536840"/>
            <a:ext cx="184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438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5105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29718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295280"/>
            <a:ext cx="22860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ркетинг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сле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057400"/>
            <a:ext cx="22860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819520"/>
            <a:ext cx="22860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4343400"/>
            <a:ext cx="22860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плуа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105520"/>
            <a:ext cx="22860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тил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81280"/>
            <a:ext cx="22860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4960" y="3048120"/>
            <a:ext cx="73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8120" y="3809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1280" y="42670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P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920" y="1447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3480" y="152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3600" y="2133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6200" y="48006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2880" y="5181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281952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MRP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0" y="44197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8520" y="54100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IE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5840" y="5334120"/>
            <a:ext cx="746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P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105520"/>
            <a:ext cx="99036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19160" y="1676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648320" y="25146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952880" y="1676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91320" y="1905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172200" y="19051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320" y="3200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288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590920" y="358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81280" y="42670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724280" y="51055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105520" y="54864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8288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57040" y="4191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066680" y="45720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371600" y="45720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600200" y="4723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28800" y="51051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05120" y="54864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1905120"/>
            <a:ext cx="213336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03848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00320" y="1676520"/>
            <a:ext cx="506664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AE - Computer Aided Engineerin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AD - Computer Aided Desig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AM - Computer Aided Manufacturin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DM - Product Data Managemen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9800" y="9144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мышленные автоматизированны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600" y="3141720"/>
            <a:ext cx="786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п   «Проектирование» делится на иерархические уровн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спекты и стадии (НИР, ОКР, техническое и рабочее проектиров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ытания) - информационные связи уровней, аспектов и стад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е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572000"/>
            <a:ext cx="85345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ETM - Interactive Electronic Technical Man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ение, техническая диагностика, методики обслуживания и ремо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LM - Product LifeCycle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нформационные связи всех этапов ЖЦ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01080" y="33336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л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0:53:37Z</dcterms:created>
  <dc:creator>Norenkov </dc:creator>
  <dc:description/>
  <dc:language>en-US</dc:language>
  <cp:lastModifiedBy>Норенков И.П.</cp:lastModifiedBy>
  <dcterms:modified xsi:type="dcterms:W3CDTF">2005-02-11T09:31:56Z</dcterms:modified>
  <cp:revision>62</cp:revision>
  <dc:subject/>
  <dc:title>Заголовок слайда отсутствует</dc:title>
</cp:coreProperties>
</file>