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35.wmf" ContentType="image/x-wmf"/>
  <Override PartName="/ppt/media/image36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42.png" ContentType="image/png"/>
  <Override PartName="/ppt/media/image31.wmf" ContentType="image/x-wmf"/>
  <Override PartName="/ppt/media/image4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5.png" ContentType="image/png"/>
  <Override PartName="/ppt/media/image1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F89-FB24-468A-B723-7CA99B22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93D-6067-4289-A226-F55D9AB7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96B-C9F9-44D5-874B-F92F4522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A3F-2FFC-4210-8513-EDA84802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4B5-7460-4504-93E8-E596A9D8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0D3-4953-4702-B63B-0276FDEC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EBD-95DF-4352-8F03-F114C6E6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FF2-443D-4942-B786-66CECED3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982-2688-4402-94CF-50E18E67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B09-9CC3-4C60-9AA8-A72D6AB8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7B9-8F3A-461D-ACD7-244FD732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B15-61F3-4809-BC3D-B778820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01D2-F4E8-440D-9F66-515CAFCA1D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90720"/>
            <a:ext cx="8458200" cy="56804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ALS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ее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 Aided Logistics Support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ын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Continuous Acquisi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Lifeсycle Sup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онная поддержка промышленных изделий (ИПИ) на протяжении всего их жизненного цик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азначение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CALS-технолог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оздание единого информационного пространства  для  взаимодействия  различных автоматизированных систем на этапах ЖЦ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электронный документооборо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интегрированная логистическая поддерж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оддержка систем управления качеством продук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редства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CALS-технолог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Информационное обеспечение - единая БД, онтологии приложений, международные и национальные стандар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Лингвистическое обеспечение - язы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, SGML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графических данны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Методическое обеспечение - методи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ое обеспечение - методы имитационного моделирования, планирования и распределения ресурс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Программное обеспечение -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M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дакторы и конверторы язык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и SGML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создания ИЭТР, программы распределенной обработки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733920"/>
            <a:ext cx="8686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0"/>
            <a:ext cx="731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. 4. Автоматизация этапов жизненного цикла изделий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452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990720"/>
            <a:ext cx="17524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12193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1066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990720"/>
            <a:ext cx="3808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1219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1896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095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5120" y="914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914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81080" y="1600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514240" y="1143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2895480"/>
            <a:ext cx="129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6200" y="2057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0" y="1295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6400" y="2057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5400" y="6048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2362320"/>
            <a:ext cx="228600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CHEMA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NTITY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lin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1,P2: poin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NTITY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1: 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NTITY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_lin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1,P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 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NTITY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_SCHEMA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371600"/>
            <a:ext cx="251460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LE DESCRIPTION ((‘черте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’1’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LE NAME (‘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g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’,’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2.04.04’,(’Иванов’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LE SCHEMA((‘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etail’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SE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1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0,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2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0.,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3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0,16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4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0.,16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5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8.,9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6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0.,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7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8.,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8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0.,16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9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8.,16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6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0.,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7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8.,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762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76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219320" y="68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219320" y="762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609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3848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1523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08240" y="1523880"/>
            <a:ext cx="2098080" cy="45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8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0.,16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9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8.,16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10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0.,4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11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8.,4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12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0.,14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13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8.,14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14 = line(#1,#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15 = line(#1,#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16 = line(#2,#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17 = line(#3,#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18 =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ircle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5,10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19 = line(#6,#7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20 = line(#6,#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21 = line(#7,#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22 = line(#8,#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23 = d_line(#10,#1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24 = d_line(#12,#1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SE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286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трольные зад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94920" y="1236600"/>
            <a:ext cx="2022120" cy="44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Schema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ircui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tity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ypeT:string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,B,C: 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tity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resisto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1,P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tity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ermin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role: st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term: node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node=intege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134784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142416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23920" y="1500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157644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6527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562720" y="142380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1195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195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814320"/>
            <a:ext cx="152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814320"/>
            <a:ext cx="152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1195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181480" y="661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715000" y="661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6620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1957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1347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66204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1424160"/>
            <a:ext cx="759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134784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2590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760" y="11430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х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44680" y="1066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4000" y="5335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124080"/>
            <a:ext cx="761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17480" y="7239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0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16080" y="73836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3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2760" y="1424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2362320"/>
            <a:ext cx="327636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FILE DESCRIPTION ((‘casca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’1’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NAME (‘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amp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,’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2.04.04’,(’Иванов’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SCHEMA((‘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circuit’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1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resist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,4,4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2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resist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3,4,1.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3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ransistor(‘Tp1’,1,2,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4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‘Input’,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5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‘Output’,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6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‘Power’,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380880"/>
            <a:ext cx="1600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6440" y="1805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4320" y="1424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1520" y="1042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3800" y="380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838080" y="1066680"/>
          <a:ext cx="66294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6629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7621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формационное взаимодействие систем в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34520" y="1522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914400" y="3429000"/>
          <a:ext cx="654516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54516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144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тологии и прикладные протокол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990720"/>
            <a:ext cx="5334120" cy="48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грированные ресурс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2: представление геометрии и тополог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5: свойства материалов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7: допус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4: метод конечных элем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кладные компонен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овые геометрические форм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кладные протокол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2: черче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3: проектирование механических издели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8: управление внесением изменени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10: печатные плат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12: электротехнические издел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14: проектирование мех. частей автомобиле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21:непрерывные производственные процесс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04920" y="1219320"/>
          <a:ext cx="29257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2925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8610480" y="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661200" y="457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P2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83808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окол для обмена данными о машиностроительных изделиях - об их конфигурации и геометрических моделя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7840" y="182880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 ISO 10303-4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09480" y="2286000"/>
          <a:ext cx="3886200" cy="35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388620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648320" y="2438280"/>
          <a:ext cx="4190760" cy="33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438280"/>
                    <a:ext cx="419076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4648320" y="1905120"/>
            <a:ext cx="4038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ение геометрической фор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0" y="152388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хемы на Express-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181480" y="838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676520" y="1219320"/>
          <a:ext cx="5419440" cy="47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419440" cy="47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1752480" y="6094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р описания геометрии 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 10303-2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07920" y="1066680"/>
            <a:ext cx="7815600" cy="27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архива в электронный вид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системы управления документами и документооборот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бычно входит в соста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M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стандартных форматов документов и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ндар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 1840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ускает следующие виды передаваем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умент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Отсканированные страницы твердых коп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Документы на язык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GM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Обменные файлы п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Графика - IGES, Express (в САПР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JPEG, TIFF, CGM (не в САПР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ждый документ состоит из метаданных и собственно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и использование ИЭТ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ктронная цифровая подпи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15080" y="45720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ктронная документ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7000" y="2286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Times New Roman"/>
              </a:rPr>
              <a:t>Лекция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45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активные электронные технические руководства (ИЭТР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752480"/>
            <a:ext cx="83818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1) обучение:  2) поддержка регламентных работ; 3) диагностика и поиск неисправностей; 4) автоматизированный заказ запасных материалов и изделий; 5) обмен данными «производитель - потребитель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 0: Обычные документы в электронном вид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 1:  Доступ к частям из оглав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 2: Полный гипертекс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 3: Модульная структура, язы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GM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 4: Нелинейная иерархическая структу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 5: Интеллектуальный собеседн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10480" y="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" y="533520"/>
            <a:ext cx="708660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кхнологии создания ИЭТ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электронных энциклопед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648320"/>
            <a:ext cx="12189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876920"/>
            <a:ext cx="53352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724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5257800"/>
            <a:ext cx="53352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487692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у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4876920"/>
            <a:ext cx="3812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5334120"/>
            <a:ext cx="3812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3760" y="1600200"/>
            <a:ext cx="758736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Создание исходной версии онтологии прилож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редставление онтологии в виде тезаур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 = {имя понятия; [синонимы]; [обозначение]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бревиату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ое определение; входные понятия; ссылки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Разработка исходного множества моду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Разработка системы управ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4724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114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495680"/>
            <a:ext cx="30456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4191120"/>
            <a:ext cx="30492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4280" y="5105520"/>
            <a:ext cx="30492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4724280"/>
            <a:ext cx="30456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5486400"/>
            <a:ext cx="30456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0" y="434340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0120" y="4648320"/>
            <a:ext cx="30456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5334120"/>
            <a:ext cx="304920" cy="30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53280" y="495288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480060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541008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038480" y="434304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4800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38480" y="47242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343400" y="533376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47242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029200" y="502884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343040" y="5562360"/>
            <a:ext cx="114300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510552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13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867280" y="5029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4120" y="4419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434340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44956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46483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867280" y="5334120"/>
            <a:ext cx="990720" cy="3045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162920" y="49525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924680" y="4876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848720" y="52574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62920" y="54100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867280" y="5562360"/>
            <a:ext cx="1676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05920" y="4267080"/>
            <a:ext cx="30456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924320" y="44956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162920" y="42670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42670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685800" y="4648320"/>
            <a:ext cx="76320" cy="30456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5562720"/>
            <a:ext cx="15228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152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819520" y="685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и разм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1295280"/>
            <a:ext cx="8076960" cy="44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графические БД - доступ с помощью языков типа SQL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 к документальным БД: требуется структурирование информ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XML -  структурирование путем размет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разделение текста  на элемен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типизация и атрибутирование элем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описание введенных типов и атрибутов в таблице DT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описание правил форматирования в файле CSS или XS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GML, HTML, XML.  На базе XML построен ряд современных информационных технологий, например, технология SOAP (Simple Object Access Protocol) для E-Commerce и других распределенных информационных сист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зыки запросов к XML базам документов:   XPath, XQue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3452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3048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матическое обеспече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581280"/>
            <a:ext cx="8153640" cy="28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ематический аппарат, используемый в интегрированных ресурсах и в важнейших прикладных протоколах (АР20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еометрическое моделирование, МКЭ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дели и методы имитационного моделирования сложных интегрированных сист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системы массового обслуживания, сети Петр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тоды структурного синтеза и принятия решений, включая логистические задачи и управление проект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дискретное математическое программирование (в т.ч. генетические алгоритм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152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9480"/>
            <a:ext cx="80010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сторическая справ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ША, 80-е годы. Программа СОИ. Десятки предприятий. Невозможность совместной работы над проект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егодн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1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business (В2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иртуальные предприятия.                           2) Обслуживание сложной техники.  3) Международный рын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нова решения пробл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Стандартизация интерфейсов систем.  Стандарты разрабатываю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(подкомитет SC4 в комитете TC184), IEEE, EIA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др. В России Комитет 431 в Госстандар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838080" y="1905120"/>
          <a:ext cx="8305920" cy="33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30592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98108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 разметк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1295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оловок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838080" y="1676520"/>
          <a:ext cx="6400800" cy="35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6400800" cy="35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10666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 описания документа на язы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38080" y="5562720"/>
          <a:ext cx="6743880" cy="749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562720"/>
                    <a:ext cx="6743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457200" y="609480"/>
          <a:ext cx="64771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6477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80880" y="838080"/>
          <a:ext cx="7124760" cy="36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712476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143000" y="4275000"/>
          <a:ext cx="5943600" cy="258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75000"/>
                    <a:ext cx="594360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213372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зуализация докум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762120" y="533520"/>
          <a:ext cx="769608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769608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845820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438280" y="4572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ченный докум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1219320"/>
          <a:ext cx="815328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15328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219320" y="990720"/>
          <a:ext cx="6933960" cy="49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933960" cy="49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1752480" y="3049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скадная таблица стилей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62120" y="380880"/>
            <a:ext cx="792468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грированная логистическая поддерж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вязь этапов разработки, изготовления и эксплуатац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4495680"/>
            <a:ext cx="777240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ирование процессов эксплуатации и МТО, средств диагностики, расчет надежности, управление поставкой запасных деталей и расходных материалов, упаковкой и транспортировкой, кодификац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р: стандарт Великобритании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- 00 6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0592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73840" y="15228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4160" y="1219320"/>
            <a:ext cx="66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: минимизация затрат на поддержку всех этапов ЖЦ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23280" y="1819440"/>
            <a:ext cx="174276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де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23640" y="2590920"/>
            <a:ext cx="1799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ирова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служи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24000" y="3505320"/>
            <a:ext cx="151272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умен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12760" y="26668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Д ИЛ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9400" y="342900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12240" y="213372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плуатац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31560" y="289548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плуа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19320" y="25909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51468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182880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274320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213372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29000" y="342900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2523960"/>
            <a:ext cx="10666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05920" y="2971800"/>
            <a:ext cx="1522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182880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31520" y="190512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971800" y="29714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191120" y="228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20574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971440" y="2057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718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971440" y="2895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9200" y="2057400"/>
            <a:ext cx="22860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5880" y="2590920"/>
            <a:ext cx="381240" cy="380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724280" y="24379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24280" y="289548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2438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42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7242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3581280"/>
            <a:ext cx="3812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3809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24120" y="3429000"/>
            <a:ext cx="220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ьный пот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онный пот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229600" y="2971800"/>
            <a:ext cx="76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985760" y="50796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09000" y="990720"/>
            <a:ext cx="69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на на ИПИ-технологиях и стандарта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000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Q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ие предприятием через управление качеств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95760" y="2116080"/>
            <a:ext cx="1555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бор и 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х 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5760" y="3124080"/>
            <a:ext cx="1555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бор и 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х о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ребите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5440" y="2209680"/>
            <a:ext cx="1486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ей (задач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2560" y="3276720"/>
            <a:ext cx="1267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бот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атег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2209680"/>
            <a:ext cx="1320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урс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5440" y="3352680"/>
            <a:ext cx="1436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18800" y="2895480"/>
            <a:ext cx="1069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12408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2057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2057400"/>
            <a:ext cx="1524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124080"/>
            <a:ext cx="1524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057400"/>
            <a:ext cx="1524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3200400"/>
            <a:ext cx="1524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266688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514600" y="24382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146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098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648320" y="236196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3429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0572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705720" y="3124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90720" y="1143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ное обеспече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S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2057400"/>
            <a:ext cx="784872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ы ПО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 Системы управления проектными данным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Редакторы, верификаторы, конверторы язы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res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Инструментальные средства разработки ИЭТР, в т.ч. редактор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GML (XML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Средства поддержки работы в сетевой среде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AP, CORBA, RPC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т.п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3657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610480" y="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57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638680" y="1219320"/>
            <a:ext cx="184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2514600"/>
            <a:ext cx="184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4343400"/>
            <a:ext cx="184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5410080"/>
            <a:ext cx="18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5943600"/>
            <a:ext cx="18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18432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066680"/>
            <a:ext cx="3048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828800"/>
            <a:ext cx="3048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гвистиче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114800"/>
            <a:ext cx="3048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ты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352680"/>
            <a:ext cx="3048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лож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590920"/>
            <a:ext cx="2971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ум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876920"/>
            <a:ext cx="2971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Э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638680"/>
            <a:ext cx="3048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ы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11960" y="355680"/>
            <a:ext cx="42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ты и методи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21932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F0, IDEF3, IDEF1X, U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1981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 (ISO 10303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41911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GES, JPEG, TIFF, CGM (по MIL-1840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880" y="340200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кладные протоколы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160" y="2666880"/>
            <a:ext cx="492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и размет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GML, X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электрон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ифровая под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3520" y="5002200"/>
            <a:ext cx="46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IL-87268…MIL-87270, AECMA 1000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4960" y="571500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arts Library (ISO 1358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8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609480"/>
            <a:ext cx="8382240" cy="41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PD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анение данных, доступ к данным (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M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ся СУБД оригинальная или заимствованна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составом изделия (поддержка структурирования данных, навигации по дереву изделия, визуализация данных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изделий (поиск, кодификаци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версиями и внесением измен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документами и документооборот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потоком работ (планирование, отслеживание событий, подсказка нужных действий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ка электронной подпис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ртирование форматов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16560" y="5257800"/>
            <a:ext cx="66441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eam, Teamcenter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цман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M, STEP Suite, PartY P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219320" y="1066680"/>
          <a:ext cx="594360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9436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2666880" y="609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PDM Smar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53452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55280" y="5410080"/>
            <a:ext cx="23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364120" y="60948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DM в отечественных САП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5240" y="3505320"/>
            <a:ext cx="80888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ПР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T-Flex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ена с использование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N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base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L Server. Геометрическое ядро Parasoli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хитектура “клиент/сервер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л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ыполняет подистема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DOC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правления техническ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ументаци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 групп пользовател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ументооборо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тройка пользовательского интерфей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вление проектировани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товые услу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1280" y="1371600"/>
            <a:ext cx="8222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PDM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Лоцман: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LM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ходит в состав САПР Компас (компания Аскон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ена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по 3-звенной архитекту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используе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L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 подсистемы: Администратор (управление серверами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фигуратор (настройка БД), клиент (интеграция с приложения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D/CAM), формирование отчетов, маршрутизация (Workflo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ументооборот, согласования и утверждения, управл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менениями), импорт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ументы), удаленный доступ (чере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браузер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64720" y="304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Times New Roman"/>
              </a:rPr>
              <a:t>Лекция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127960" y="45720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вление конфигурацией в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T-Fle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057400" y="3809880"/>
          <a:ext cx="457200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809880"/>
                    <a:ext cx="457200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2286000" y="31240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еспечение целостности данных 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clid Data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9160" y="1371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1447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скиз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2895480"/>
            <a:ext cx="4724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90720" y="1447920"/>
            <a:ext cx="1523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46600" y="220968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глас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5880" y="13716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13480" y="220968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1680" y="137160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работ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86000" y="137160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позитор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39000" y="236232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90720" y="2209680"/>
            <a:ext cx="16002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19520" y="1371600"/>
            <a:ext cx="16002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1371600"/>
            <a:ext cx="16002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57600" y="2209680"/>
            <a:ext cx="16002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1371600"/>
            <a:ext cx="16002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29400" y="2362320"/>
            <a:ext cx="16002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9051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438280" y="16761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724280" y="1676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257800" y="16761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86600" y="167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77240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943600" y="16761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762120" y="2868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5820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8920" y="1371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ы поддержки язы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25920" y="1878120"/>
            <a:ext cx="732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вежская фирм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PM Technolog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лаг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press Data Manag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DMdeveloperSeat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держка БД, HTML-выход, SDAI-интерфейс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DMvisualExpress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и визуализация моделей на базе Express-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DMmodelConverter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ача данных между схемами на базе Express-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DMmodelChecker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корректности модел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DMserver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ент-серверная платформа для Б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05120" y="3478320"/>
            <a:ext cx="654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рм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EP Tool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ША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-Develope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здание, редактирование, визуализация модел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28080" y="4164120"/>
            <a:ext cx="69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инство машиностроительных САПР имеют Express-интерфейс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азе AP2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086600" y="990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604160" y="685800"/>
            <a:ext cx="543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и сетевого взаимодейств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автоматизированных систем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19080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1298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оддержка распределенного выполнения проектных процедур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19810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ухзвенные и трехзвенные схемы распределенных вычис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3000" y="259092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фейс пользовате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72880" y="2666880"/>
            <a:ext cx="1416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31360" y="2743200"/>
            <a:ext cx="781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05720" y="259092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йлы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95480" y="2590920"/>
            <a:ext cx="15242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2590920"/>
            <a:ext cx="15242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24280" y="2590920"/>
            <a:ext cx="15242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2590920"/>
            <a:ext cx="15242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909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197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2485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00800" y="2895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590560" y="28954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64840" y="3200400"/>
            <a:ext cx="61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Сервер БД            Доступ к удаленным данным       Файл-серв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14360" y="3581280"/>
            <a:ext cx="64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Компьютер 1          Компьютер 2                                              Компьютер 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447560" y="3047760"/>
            <a:ext cx="152280" cy="53316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276720" y="3047760"/>
            <a:ext cx="75960" cy="53316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019920" y="3047760"/>
            <a:ext cx="457200" cy="6094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543800" y="3124080"/>
            <a:ext cx="228600" cy="5335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623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5720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4876920"/>
            <a:ext cx="5335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56386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5943600"/>
            <a:ext cx="5335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28800" y="5257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3880" y="5257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09680" y="5257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1883880" y="4973760"/>
            <a:ext cx="22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нитор транза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19520" y="4267080"/>
            <a:ext cx="380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81280" y="5486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рвер прилож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81280" y="5486400"/>
            <a:ext cx="1905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4724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рвер прилож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4724280"/>
            <a:ext cx="1905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19720" y="5257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257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5257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н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48520" y="510552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57400" y="47242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057400" y="54860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200400" y="4876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53341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864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486400" y="540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762120" y="1447920"/>
          <a:ext cx="7696080" cy="429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69608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1672560" y="609480"/>
            <a:ext cx="53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риант клиент/серверного взаимо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57920" y="762120"/>
            <a:ext cx="832968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ы обмена данными между процесс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через разделяемую память (локальн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передача сообщений (в се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общение содержит поля: команда (послать, получить), тип данны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лина, адре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ент/серверное взаимодействие в типовых службах выполняе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определенному протоколу, например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P, Telnet, SMTP, HTT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наличии ПО клиента и серве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выделением фиксированного порт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TP - файловый обмен, Telnet - эмуляция терминал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MTP - протокол E-mail, HTTP - протокол для Web-технолог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и распределенных вычислений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PC, CORBA, DCOM, SOAP, Web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997560" y="914400"/>
            <a:ext cx="63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онентно-ориентированные 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0080" y="1649520"/>
            <a:ext cx="8196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изволь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цессов (компонентов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Определение адреса компонента по его имени (DNS в TCP/I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UDDI в SOAP, репозитарий реализаций в OR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Интерфейс каждого компонента предварительно описывается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ьном языке (IDL в RPC и CORBA, USDL в SO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Клиентское и серверное ПО взаимодействия - стабы, создаю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варительно по описанию интерфейса или динамически по сведения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репозитария интерфей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нообразие аппаратно-программных платфор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ая безопас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09480" y="1447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52680" y="2286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76212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хнология удаленного выполнения процедур RP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emote Procedure C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22860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ый вы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2743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лица преры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520" y="3200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ы обраб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28195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3276720"/>
            <a:ext cx="2057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716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16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200" y="1743120"/>
            <a:ext cx="277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Локальный случай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бмен данными через ст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95680" y="1828800"/>
            <a:ext cx="3733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Удаленный вызов процедур - обмен данными через стабы и се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77520" y="2362320"/>
            <a:ext cx="40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место процедур - обращение к  стаб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упаковки и распаковки парамет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бы создаются по описанию интерфей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язык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Interface Definition Languag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33720" y="4478400"/>
            <a:ext cx="6670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дентификатор   Тип     Ид-р      Программа   Версия   Процедура   Дан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ения                 клиен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4419720"/>
            <a:ext cx="678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004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3848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866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39625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рмат сообщений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66880" y="457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(ISO 103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295280"/>
            <a:ext cx="6781680" cy="30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м 1: Введение 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ма 11-19: Методы опис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ма 21-29: Методы реал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ма 31-39: Основы тестирования мод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ма 41-50: Интегрированные основные ресурс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ма 101-199: Интегрированные прикладные ресурс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ма 201-299: Прикладные протоко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ма 301-399: Тестовые набо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ма 501-599: Прикладные компонен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5820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90720" y="1295280"/>
            <a:ext cx="6858000" cy="43038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3581280" y="380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23880" y="8380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о прикладных компонентах хранятся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63080" y="5715000"/>
            <a:ext cx="66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ктный адаптер управляет выполнением серверных процеду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218240" y="457200"/>
            <a:ext cx="67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AP (Open Object Access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90720" y="1143000"/>
            <a:ext cx="7124760" cy="3324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43000" y="4343400"/>
            <a:ext cx="716292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зыки и реестр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ужб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SDL (Web Service Description Languag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DDI (Universe Description Discovery Integ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480" y="5715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имущества: 1) Язы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нимают все платформы; 2) Использован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рт 80) позволяет передавать данные, несмотря на брандмауэ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08760" y="2286000"/>
            <a:ext cx="7986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и различаются способом реализации интерактив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спределением функций между сервером и клиент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е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ерверного исполнения програм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Нет проблем с совместимостью платфор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ет проблем с соблюдением прав собств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Нет опасности несанкционированного доступа к данным клие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Снижаются требования к характеристикам клиентских компьюте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Опасность перегрузки сервера при большом числе клиен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овышенные требования к пропускной способности сети п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активной работе пользова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6600" y="53352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eb-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79200" y="1066680"/>
            <a:ext cx="769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начение - доступ к информации, имеющейся 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сервер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вязь по HTTP (HyperText Transfer Protocol)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прос клиента (команда get), пересылка заполненных форм (pos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3050640" y="6094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eb-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1219320"/>
            <a:ext cx="84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Включение сценария в HTML-документ (языки сценариев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JavaScript, VBScript, Perl, PHP; выполняется в узле клиент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плеты (Applets) - приложение на Java передается для испол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ент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Активные серверные страницы (ASP) - сценарий исполняется на сервер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CGI (Common Gateway Interface) - по каждому запросу в серв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ется  процесс (приложение) в своем адресном пространств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ISAPI (Internet Server Application Programming Interface) - при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ются в общем адресном пространстве сервер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Сервлеты (Servlets) - приложение на Java исполняется на сервер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ActiveX - компоненты управления, могут исполняться в узлах серв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клие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354840" y="6094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9800" y="1295280"/>
            <a:ext cx="7508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личительные свойства портал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иная точка входа; расширенная функциональ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труктуризация и предоставление информации в конкрет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ложениях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портала - мультиагентная систе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енты:  персонализация, защита, поиск, чат, почт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леживание изменений в источниках информации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ПО : </a:t>
            </a: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WebSphere Portal Server (IB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1981080" y="1981080"/>
          <a:ext cx="4721400" cy="23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47214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838080" y="16002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онентно-ориентированные и мультиагентны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14400" y="46483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р компонентно-ориентированной среды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CAS.C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560" y="137160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а агент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2743200" y="228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RID-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838080"/>
            <a:ext cx="3733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ы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 Распараллеливание задач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 Взаимодействие ресурсов в гетерогенной сред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 Защита информации, аутентификация и авторизация пользователей, биллин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0880" y="3051000"/>
            <a:ext cx="792504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фикация решений - организация GRID For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вление - пакет   Globu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olki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токолы  OGSA (Open Grid Service Architecture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Адаптационный (унифицированное описание ресурсов, управление пакетной обработкой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ровень связи (доставка по сет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Доступ к ресурсам (мониторинг состояния ресурсов с помощью служб;         </a:t>
            </a: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GRIP (Grid Resource Information Protocol),    GRRP (Grid Resource Registration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. Уровень кооперации ( выбор средств для конкретных заданий с помощью брокеров, диспетчеров и серве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IS (Grid Index Information Server))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10280" y="228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49760" y="911160"/>
            <a:ext cx="18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67840" y="990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0" y="1752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спетч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00800" y="2514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0" y="9144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71640" y="1600200"/>
            <a:ext cx="163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лад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76920" y="990720"/>
            <a:ext cx="90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RIP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ен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10280" y="91440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705720" y="175248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9920" y="243828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172200" y="11430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543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7009920" y="2209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6172200" y="1981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286000" y="1447920"/>
            <a:ext cx="19810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IBM/Dess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ATIA V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Solid 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Para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Smarteam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o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1447920"/>
            <a:ext cx="198108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Unigraphics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-DEAS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Unigraphics N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Parasol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Solid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Para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-MAN 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Team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943600" y="1447920"/>
            <a:ext cx="16002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P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Pro/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CADDS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-&gt;Wildf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Granite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Pro/Desk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/Intralin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indchil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1447920"/>
            <a:ext cx="129528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utode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nven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C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utodesk V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" y="1447920"/>
            <a:ext cx="1752480" cy="30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мп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ерх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р.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1219320"/>
            <a:ext cx="8534160" cy="380988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81080" y="1219320"/>
            <a:ext cx="0" cy="3809880"/>
          </a:xfrm>
          <a:prstGeom prst="line">
            <a:avLst/>
          </a:prstGeom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62520" y="1219320"/>
            <a:ext cx="0" cy="3809880"/>
          </a:xfrm>
          <a:prstGeom prst="line">
            <a:avLst/>
          </a:prstGeom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67280" y="1219320"/>
            <a:ext cx="0" cy="3809880"/>
          </a:xfrm>
          <a:prstGeom prst="line">
            <a:avLst/>
          </a:prstGeom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91520" y="1219320"/>
            <a:ext cx="0" cy="3809880"/>
          </a:xfrm>
          <a:prstGeom prst="line">
            <a:avLst/>
          </a:prstGeom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1828800"/>
            <a:ext cx="85341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4920" y="3276720"/>
            <a:ext cx="8534160" cy="759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920" y="4038480"/>
            <a:ext cx="85341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0880" y="5105520"/>
            <a:ext cx="8458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оду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D, 3D твердотельного проектирования, 3D промышленного дизайна, САМ, инженерного анализа, визуализации, обмена данными, приклад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68360" y="838080"/>
            <a:ext cx="52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дер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E/CAD/CAM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 машиностро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0880" y="5943600"/>
            <a:ext cx="8382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обенности «тяжелых» систе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3D твердотельное и поверхностное моделирование; 2) Высокая размерность сборок; 3) большое число модулей, в том числе для особых конструкций и технолог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95280" y="380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.5 . Программное обеспечение САПР (обзо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533520" y="22860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дрение на крупных предприятиях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копий “тяжелой” системы, несколько десятков-сотен инсталляций  “легкой” или средней систе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5800" y="3581280"/>
            <a:ext cx="79246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прочности,  температурных  и электромагнитных полей, течений жидкостей и газов, акустика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ры: Ansys, Cosmos, Nastra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Анализ динамики сложных  механических систем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й лиде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ms;  в России- ПА9 (МГТУ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686800" y="304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6680" y="914400"/>
            <a:ext cx="6400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йские системы среднего уровня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AD/CAM: Компас (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M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цман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M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Fl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E/CA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M WinMach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47320" y="5638680"/>
            <a:ext cx="49586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Журнал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D/CAM/CAE Observer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 2002-2004 г.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762120" y="685800"/>
            <a:ext cx="777240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функциональные системы проектирования СБИС - Synoрsis, Cadencе, Mentor Graph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анирование кристалла, VHDL описание, синтез и верификация на RTL и вентильном уровнях, синтез тестов, размещение, трассировка, компоновка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ирование РЭА - OrCAD, P-CAD, Protel-99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чатные платы, аппаратура на ПЛИС, аналого-цифровое моделирование и оптимизация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ые сре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nAc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61048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95480" y="533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2819520"/>
            <a:ext cx="1981080" cy="17884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l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o,p1: 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_ENTIT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,y,z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_ENTIT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095880" y="1981080"/>
            <a:ext cx="1371600" cy="60984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1905120"/>
            <a:ext cx="1522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1430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ативный объектно-ориентированны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34520" y="2286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4952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02920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53280" y="502920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51814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5105520"/>
            <a:ext cx="759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0955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640" y="48006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oord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4495680" cy="32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CHEM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_схем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ло 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_SC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_сущ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рибу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я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ие атрибу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нтификатор: ти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= зна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3400" y="528156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я_сх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5410080"/>
            <a:ext cx="107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3341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53341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5638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53341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486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352680" y="5562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048120" y="5562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6960" y="5257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трибу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54100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4720" y="3808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екция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6640" y="49528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8520" y="5181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00992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509280" y="50796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пы СБ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1200" y="1219320"/>
            <a:ext cx="267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процессо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ы памя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19720" y="1219320"/>
            <a:ext cx="388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зирова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з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остью заказ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тандартных ячейк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заказ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М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95280" y="1676520"/>
            <a:ext cx="0" cy="99036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95280" y="2057400"/>
            <a:ext cx="1526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5280" y="2666880"/>
            <a:ext cx="1526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48320" y="1676520"/>
            <a:ext cx="0" cy="99036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648320" y="2057400"/>
            <a:ext cx="152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48320" y="259092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8320" y="2971800"/>
            <a:ext cx="152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3276720"/>
            <a:ext cx="1526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505320"/>
            <a:ext cx="1526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181480" y="3886200"/>
            <a:ext cx="1526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181480" y="4114800"/>
            <a:ext cx="1526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76920" y="2362320"/>
            <a:ext cx="152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76920" y="2666880"/>
            <a:ext cx="1522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876920" y="2209680"/>
            <a:ext cx="0" cy="4572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8280" y="4495680"/>
            <a:ext cx="4572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LD - Complex Programmable Logic Devi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PGA - Field Programmable Gate Arr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52578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собы специализации: БМК - нанесение слоев металлизации; ПЛИС - перемычки (fuse  и antifuse), переключатели (МОП-транзисторы с плавающим затвором), теневая памя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914400" y="1523880"/>
          <a:ext cx="7238880" cy="39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238880" cy="39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1676520" y="609480"/>
            <a:ext cx="579096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шрут проектирования СБ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а стандартных ячейка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91560" y="5715000"/>
            <a:ext cx="77641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швицкий Р., Мурсаев А., Угрюмов Е. Проектирование систем на микросхем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ируемой логики. - СПб.: БХВ-Петербург,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317000" y="2286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екция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594880" y="220968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Язык VH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1143000" y="3733920"/>
          <a:ext cx="3733920" cy="98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733920"/>
                    <a:ext cx="37339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914400" y="4648320"/>
          <a:ext cx="7162920" cy="155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648320"/>
                    <a:ext cx="71629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1676520" y="561960"/>
            <a:ext cx="45514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Языки, используемые в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C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DL (VHDL, Verilog, System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F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описание цепей (топологии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и для генераторов изображ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19560" y="2590920"/>
            <a:ext cx="49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ное и поведенческое опис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990000" y="312408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ь состоит из описания внешних связ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архитектурного тела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"/>
          <p:cNvGraphicFramePr/>
          <p:nvPr/>
        </p:nvGraphicFramePr>
        <p:xfrm>
          <a:off x="457200" y="457200"/>
          <a:ext cx="417204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41720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4648320" y="1371600"/>
          <a:ext cx="3809880" cy="34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380988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4041720" y="22860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р структурного опис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609480" y="5257800"/>
          <a:ext cx="4800600" cy="93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257800"/>
                    <a:ext cx="48006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838080" y="1219320"/>
          <a:ext cx="5794560" cy="73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219320"/>
                    <a:ext cx="57945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257800" y="5334120"/>
          <a:ext cx="3392640" cy="1197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5334120"/>
                    <a:ext cx="33926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914400" y="3276720"/>
          <a:ext cx="4038480" cy="14698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276720"/>
                    <a:ext cx="403848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"/>
          <p:cNvSpPr/>
          <p:nvPr/>
        </p:nvSpPr>
        <p:spPr>
          <a:xfrm>
            <a:off x="990720" y="380880"/>
            <a:ext cx="281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новные операто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838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Операторы присваивания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:=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   и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&lt;=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28440" y="193356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Операторы условные и выб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5280" y="25909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the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оператор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el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ов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72320" y="4876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ллельные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5105520" y="3352680"/>
          <a:ext cx="3276360" cy="857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3352680"/>
                    <a:ext cx="32763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7238880" y="304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39400" y="29718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ример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1143000" y="2971800"/>
          <a:ext cx="3429000" cy="108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71800"/>
                    <a:ext cx="34290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1068120" y="5335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Операторы  цик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692280" y="909720"/>
          <a:ext cx="6394320" cy="17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909720"/>
                    <a:ext cx="63943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"/>
          <p:cNvSpPr/>
          <p:nvPr/>
        </p:nvSpPr>
        <p:spPr>
          <a:xfrm>
            <a:off x="991440" y="25909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Оператор ожид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762120" y="4419720"/>
          <a:ext cx="5410080" cy="2108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419720"/>
                    <a:ext cx="541008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1064520" y="396252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Операторы «процесс» и «бло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07520" y="36576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екция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609480" y="990720"/>
          <a:ext cx="7004160" cy="194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0041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765000" y="3357720"/>
          <a:ext cx="3883320" cy="106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000" y="3357720"/>
                    <a:ext cx="38833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1600200" y="990720"/>
            <a:ext cx="243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068480" y="53352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ак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214640" y="2895480"/>
            <a:ext cx="68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Ссылка на пакет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IEEE.std_logic_1164.all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из библиотеки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120" y="4495680"/>
            <a:ext cx="7543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меры предопределенных атрибу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’LAST, S’EVENT, S’STABLE(T), S’DELAYED(T), S’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16920" y="5410080"/>
            <a:ext cx="58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описания положительного фронта сигнала 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762120" y="5791320"/>
          <a:ext cx="6172200" cy="484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791320"/>
                    <a:ext cx="61722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977840" y="304920"/>
            <a:ext cx="44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мер:  Схема «Исключающее ИЛ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066680" y="7621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Y= X1 and not X2  or  X2 and not X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9480" y="1295280"/>
            <a:ext cx="396252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_xor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port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X1,X2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in bi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Y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ut bi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_xo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beh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_xor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Y &lt;= (X1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nd no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X2)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X2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nd no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X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beh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12720" y="1143000"/>
            <a:ext cx="304128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str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_xor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mponent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port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a,b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 in bit;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z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out bit;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end component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g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Z1,Z2,Z3,Z4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v1: gate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port_ma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X1, ‘1’,Z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v2: gate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port_ma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X2, ‘1’,Z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v3: gate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port_ma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X1, Z2,Z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v4: gate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port_ma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X2, Z1,Z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v5: gate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port_ma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Z3,Z4,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53341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791320" y="5486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57800" y="5334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62320" y="480060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62320" y="57913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95480" y="594360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95480" y="49528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180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7180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362320" y="4800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5791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4876920"/>
            <a:ext cx="609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81280" y="5715000"/>
            <a:ext cx="609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14800" y="58672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5029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911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812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8128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0512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533412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133720" y="5181480"/>
            <a:ext cx="14475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00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0060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8006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0060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672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4648320"/>
            <a:ext cx="1067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98400" y="47372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25320" y="57150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25520" y="4724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Z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25520" y="6019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Z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68520" y="5638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Z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268520" y="4800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Z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334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5" name=""/>
          <p:cNvGraphicFramePr/>
          <p:nvPr/>
        </p:nvGraphicFramePr>
        <p:xfrm>
          <a:off x="762120" y="1143000"/>
          <a:ext cx="6929280" cy="49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692928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2209680" y="6094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мер: Генератор синхросигнал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8" name=""/>
          <p:cNvGraphicFramePr/>
          <p:nvPr/>
        </p:nvGraphicFramePr>
        <p:xfrm>
          <a:off x="914400" y="1447920"/>
          <a:ext cx="7315200" cy="377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2057400" y="7621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мер: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-тригг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438280" y="5181480"/>
            <a:ext cx="3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57200"/>
            <a:ext cx="8839080" cy="49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с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UMBER, REAL,INTEGER, BOOLEAN,LOGICAL, BINARY,ST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      ….        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грегатив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ARRAY, LIST, SET, BAG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atr: ARRAY[1:10] OF ARRAY[1:6] OF REAL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пределяем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я_типа=ти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речислим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я_типа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UMERATION 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писок_значений);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деляем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я_типа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исок_типов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щ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371600"/>
            <a:ext cx="1067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3716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2514600"/>
            <a:ext cx="152388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3733920"/>
            <a:ext cx="1524240" cy="30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4419720"/>
            <a:ext cx="1523880" cy="30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4876920"/>
            <a:ext cx="1523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1" name=""/>
          <p:cNvGraphicFramePr/>
          <p:nvPr/>
        </p:nvGraphicFramePr>
        <p:xfrm>
          <a:off x="533520" y="990720"/>
          <a:ext cx="7696080" cy="51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769608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989640" y="457200"/>
            <a:ext cx="67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мер: Конвертер параллельного кода в последовате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69280" y="1522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екция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358360" y="533520"/>
            <a:ext cx="39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мер: Дешифратор на два вх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120" y="1371600"/>
            <a:ext cx="7238880" cy="38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сходное поведенческое опис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EE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EEE.STD_logic_1164.a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code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X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in bit_vecto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0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1); Y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ut  bit_vecto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0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decod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s1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decoder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Y&lt;= “0001”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00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0”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“01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0”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“10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0”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“11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02480" y="457200"/>
            <a:ext cx="404568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дробное поведенческое опис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для применения в базисе И-Н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934560" y="1447920"/>
            <a:ext cx="75492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s2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ecoder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ignal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Xinv: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bit_vector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ignal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inv: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it_vector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Xinv(j)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&lt;= no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X(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nd lo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Xinv(0) =‘1’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Xinv(1) 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‘1’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inv(0) &lt;= ‘0’;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inv(0) &lt;= ‘1’;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X(0) =‘1’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Xinv(1) 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‘1’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(1) &lt;= ‘0’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Yinv(1) &lt;= ‘1’;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Xinv(0) =‘1’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X(1) 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‘1’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(2) &lt;= ‘0’;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inv(2) &lt;= ‘1’;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X(0) =‘1’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X(1) 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‘1’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(3) &lt;= ‘0’;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Yinv(3) &lt;= ‘1’;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 (j)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&lt;= no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inv (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nd loo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s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356920" y="762120"/>
            <a:ext cx="39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хема дешифратора на два вх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с входом расширения Х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90920" y="21337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90920" y="297180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029200" y="48769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029200" y="388620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029200" y="21337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297180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48520" y="48769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48520" y="388620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248520" y="21337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48520" y="297180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90920" y="502920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81680" y="40384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562720" y="5029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81680" y="31240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81680" y="228600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62720" y="4038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228600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24080" y="51814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124080" y="31240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62720" y="31240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562720" y="2286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386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386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386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05740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5740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0574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00600" y="2514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00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006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0060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720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434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572000" y="236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20040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00400" y="3200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2819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411480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343400" y="2209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8600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286000" y="4114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1148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441936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44197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838080"/>
            <a:ext cx="533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666880" y="21337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9092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029200" y="2133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2133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90920" y="5029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029200" y="2971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029200" y="38862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29200" y="4876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886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248520" y="48769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248520" y="2971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7672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53920" y="2057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753920" y="2895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392600" y="2133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Y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392600" y="29718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92600" y="3886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392600" y="48769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Y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29880" y="49528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2209680" y="1295280"/>
          <a:ext cx="3886200" cy="322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95280"/>
                    <a:ext cx="388620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"/>
          <p:cNvSpPr/>
          <p:nvPr/>
        </p:nvSpPr>
        <p:spPr>
          <a:xfrm>
            <a:off x="1128600" y="533520"/>
            <a:ext cx="626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Задание: Разработать схему мультиплексора на 4 вхо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и описать ее на языке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10440" cy="365616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2365200" y="45720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ничное скан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0" name=""/>
          <p:cNvGraphicFramePr/>
          <p:nvPr/>
        </p:nvGraphicFramePr>
        <p:xfrm>
          <a:off x="606600" y="1068480"/>
          <a:ext cx="7432560" cy="274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068480"/>
                    <a:ext cx="7432560" cy="27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"/>
          <p:cNvSpPr/>
          <p:nvPr/>
        </p:nvSpPr>
        <p:spPr>
          <a:xfrm>
            <a:off x="3125160" y="60948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3048120"/>
            <a:ext cx="838188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Томашевский В., Жданова Е. Имитационное моделиро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ре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PS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- М.: Бестселлер, 20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Информационные технологии в наукоемком машиностроении/ Под ред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Г.Братухина. – К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, Тех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И.П.Норенков, П.К.Кузьмик. Информационная поддержка наукоемк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делий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технологии). – М.: МГТУ им. Н.Э.Баумана, 200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олчин А.Ф., Овсянников М.В., Стрекалов А.Ф., Сумароков С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ое  сопровождение жизненного цикла изделий. - М.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харсис,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685800"/>
            <a:ext cx="274320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трибу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язательны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ive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ожденны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nique - уникальны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irc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er: po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AL ST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er,radi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a: real:=3.14*radius**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_ENT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0440" y="685800"/>
            <a:ext cx="399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тношения агрегации и обоб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7360" y="1219320"/>
            <a:ext cx="41018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ri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TYPE 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tail1,detail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_m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STR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STR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_ENT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TYPE 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ateri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LIST[1:?] OF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_ENT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.  .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20574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281952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3124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29600" y="281952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2666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2666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848720" y="22856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2514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2514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34520" y="2514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4840" y="44197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ави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9440" y="4724280"/>
            <a:ext cx="1570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ьно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g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,Y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**2+Y**2=1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_ENT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9520" y="4724280"/>
            <a:ext cx="363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ее:.  . 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t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исок сущност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словия |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ду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функц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_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720" y="5791320"/>
            <a:ext cx="523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я (список формальных параметров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о процеду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_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90920" y="9144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ный фай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828800"/>
            <a:ext cx="44960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LE DESCRIPTION ((‘собственно описание’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’1’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LE NAME(‘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’,’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мя’,’ автор’ и т.п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LE SCHEMA(‘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ИСОК СХЕ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’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1 = POINT(1.0,0.2,2.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2 = POINT(4.5,3.7,2.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3 = LINE(#1,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304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52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514600"/>
            <a:ext cx="1981440" cy="17884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l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o,p1: 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_ENTIT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,y,z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_ENTIT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172200" y="1676160"/>
            <a:ext cx="1371600" cy="609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190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1600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209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560" y="1371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914400"/>
            <a:ext cx="281952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chem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ис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рагмен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ппа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7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ультет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местр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быти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[15] o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_ent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038480"/>
            <a:ext cx="44956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ti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: 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tege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уты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ь: da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_ent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ype day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umeration o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‘Monday’,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_typ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_schem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743200"/>
            <a:ext cx="18972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: ti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сто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_ent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61720" y="30492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моделей на язы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43920" y="1219320"/>
            <a:ext cx="438696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FILE DESCRIPTION ((‘расписа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’1’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NAME (‘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imet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,’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3.04.04’,(’Иванов’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SCHEMA((‘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исание’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SE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1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8,30,’Понедельник’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2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0,15,’Понедельник’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3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,0,’Понедельник’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4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8,30,’Вторник’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16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‘Основы САПР’, #1 ,’51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31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гмент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Н2-8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,’ФН’,9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16, #17, #18,…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SE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79520" y="533520"/>
            <a:ext cx="216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Times New Roman"/>
              </a:rPr>
              <a:t>Лекция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Times New Roman"/>
              </a:rPr>
              <a:t>(с контр. Работ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0T09:20:19Z</dcterms:created>
  <dc:creator>Norenkov </dc:creator>
  <dc:description/>
  <dc:language>en-US</dc:language>
  <cp:lastModifiedBy>Норенков И.П.</cp:lastModifiedBy>
  <dcterms:modified xsi:type="dcterms:W3CDTF">2005-02-11T10:28:54Z</dcterms:modified>
  <cp:revision>146</cp:revision>
  <dc:subject/>
  <dc:title>Заголовок слайда отсутствует</dc:title>
</cp:coreProperties>
</file>