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1.png" ContentType="image/png"/>
  <Override PartName="/ppt/media/image19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1.wmf" ContentType="image/x-wmf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EF4-E318-413A-B912-A8843C5A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DC9-3BBC-4BDC-9DDA-F7B4BB87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272-86ED-4536-8D80-0C3B05BF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454-73F9-444E-8AEF-AE1DA78D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CAD-2E73-434B-A404-D82E4500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50C-E8D2-463A-A77B-70D0B1ED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2EF-CF9F-4B05-90ED-8F045CB8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307-122B-49BE-927F-58168C60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F0D-FBD6-4CE9-9E0B-AC7C5670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3C6-EB51-4D41-A2F0-1C20365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AD8-F26D-44C8-838D-A8C4D0CC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E8A-F2F1-4C3C-BF84-D9D0A99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6764-9B8D-4501-AF99-9CE86DBE48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97180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айды к кур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Телекоммуникации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е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00600" y="2286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ренков И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3680" y="380880"/>
            <a:ext cx="7866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технический университет им. Н.Э.Баум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Системы автоматизированного проектир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715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сква,   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BEF-A960-4E87-971B-907FD5FF42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974320" y="762120"/>
            <a:ext cx="2633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оговые кана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219320"/>
            <a:ext cx="7010280" cy="51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не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 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n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600200"/>
            <a:ext cx="7621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1295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90120" y="1600200"/>
            <a:ext cx="6741360" cy="51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mo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(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sin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1 + m sin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)) sin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3200400" cy="194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4" name=""/>
          <p:cNvSpPr/>
          <p:nvPr/>
        </p:nvSpPr>
        <p:spPr>
          <a:xfrm>
            <a:off x="5105520" y="3124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10552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696080" y="2437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8487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54380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334120" y="2362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8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848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960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35812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162920" y="35812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40440" y="3733920"/>
            <a:ext cx="82080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6760" y="3733920"/>
            <a:ext cx="8848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3048120"/>
            <a:ext cx="3956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53280" y="3124080"/>
            <a:ext cx="9907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сто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2057400"/>
            <a:ext cx="12189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мплит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1720" y="4419720"/>
            <a:ext cx="8358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я модуляции реализуетс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D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метод  с разделением  каналов по частот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609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897-99BA-4EB0-B7D9-EA753180D0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357720" y="533520"/>
            <a:ext cx="2062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емная 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914400"/>
            <a:ext cx="70866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лефонные линии общего пользования (ТфОП) - полоса 3,4 кГ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1523880"/>
            <a:ext cx="6553080" cy="150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токол   Инф. скорость        Примеч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.22bis            2,4 кбит/с          Дуплекс, QAM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 600 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.32                 9,6 кбит/с          Дуплекс, фазовая модуля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.34               до 33,6 кбит/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.92               до 56  кбит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152388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304812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1523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1523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1523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0120" y="1523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182880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124080"/>
            <a:ext cx="58676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.42 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от ошибок,  V.44 - сжатие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.35, V.36, V.37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выделенные каналы, 48-140 кбит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60199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85800" y="5257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828800" y="5486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048120" y="5486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6019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                 2                 3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F, кГ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21932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43828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6576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715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38280" y="5715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2193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648320"/>
            <a:ext cx="28195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налы (дуплекс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ой      обрат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523880" y="51055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51055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1814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4343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.22b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502920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ин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F log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29440" y="404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ff"/>
                </a:solidFill>
                <a:uFillTx/>
                <a:latin typeface="Times New Roman"/>
              </a:rPr>
              <a:t>л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3886200" cy="19540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171120" y="434340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хо-компенс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0C6-B095-4CF5-B91A-B562DD17C9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95280" y="762120"/>
            <a:ext cx="6400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токолы канального уровня при модемной связ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odem, YModem, ZModem 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ценарии у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разрыва соединения, обмена сообщениями, повтор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шибках и т.п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3200400"/>
            <a:ext cx="289548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пульсно-кодов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уляция (ИК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3886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орема Котельник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4191120"/>
          <a:ext cx="358128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191120"/>
                    <a:ext cx="358128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324000" y="2276640"/>
            <a:ext cx="4679640" cy="398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BE0-342F-469A-9DFE-8FE7F6A92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752480" y="785880"/>
            <a:ext cx="3353040" cy="46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80480" y="762120"/>
            <a:ext cx="471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алы с разделением по времени (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743200" y="1395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480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148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410080" y="1471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3868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868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1623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09680" y="17002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1371600"/>
            <a:ext cx="5335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1676520"/>
            <a:ext cx="9144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895480" y="177624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95480" y="177624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895480" y="177624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2819160" y="177624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160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160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3972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34720" y="228600"/>
            <a:ext cx="58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ногоканальная передача  (разделение канало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4360" y="2133720"/>
            <a:ext cx="46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алы с разделением по частоте (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3352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44320" y="327672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астота, ГГ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9092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18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19520" y="3352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         300                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7080" y="3352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66688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81952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27672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04812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89548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251460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SM  LAN Runne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РЛ                 ВОЛ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1520" y="2666880"/>
            <a:ext cx="15238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/F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Гц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391520" y="4191120"/>
            <a:ext cx="1066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48720" y="3352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8195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14600" y="28195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048120" y="2819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63868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86400" y="29718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86400" y="28191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562360" y="281916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581280" y="2971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28195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276360" y="28195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980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7720" y="4114800"/>
            <a:ext cx="44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алы с кодовым разделение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ждый бит представлен последовательностью элементарных импульсов («чипов»): 0 кодируется инверсно по отношению к 1, последовательности выбираются по правилам ортогонального кодирования (например, кодов Уолша). В одной и той же полосе можно передавать несколько сообщ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0120" y="152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95A-1C10-44CA-8143-375BFE9746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43720" y="533520"/>
            <a:ext cx="657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налы территориальных вычислительных сет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1219320"/>
            <a:ext cx="8153280" cy="16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истральные каналы - разделение каналов по времени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частоте.   Линии - ВОЛС и радиоволны (мобильная и спутниковая связь), реже ме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налы передачи данных - плезиохронная иерархия Е1/E4 от 2 до 139 мбит/с (Т1/T4)  и  синхронная иерархия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H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155 д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488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ит/с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канал  T-1 –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87 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1 - 32 слота, Т1 - 24 слота  (по 64 кбит/с).    Две пары прово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8080" y="3048120"/>
            <a:ext cx="312444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нал                         кбит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1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 канала Е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4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 канала Е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3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4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 канала Е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92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19640" y="3213000"/>
            <a:ext cx="3200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нал                          кбит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15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 кана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107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 канал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43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 кана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25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343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5105520"/>
            <a:ext cx="5486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335268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0020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2120" y="4876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1 - 32 канала для 32 телефонных соединений (4 кГц, ИКМ - 8 кГц, каждый отсчет  1 байт, т.е. 8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2 = 2048 кбит/с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48360" y="3068640"/>
            <a:ext cx="309564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48360" y="3500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1200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F2C-39EB-46F9-B867-0AC891E41D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828800" y="762120"/>
            <a:ext cx="5486400" cy="19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H (Synchronous Digital Hierarc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Л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M-1        155,5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ит/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M-4        62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ит/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M-16    248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ит/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25146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2895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рейм - 9 строк, 270 колонок, каждая шириной в 1 бай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узлах - мультиплексоры, демультиплексоры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M-1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3 канала Е1), регенераторы оптических сигна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1BA-B8E9-4347-ADA8-CFC29ED518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619280" y="2602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и мобильной (сотовой) свя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429000" cy="2574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24000" y="1905120"/>
            <a:ext cx="4535280" cy="24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SM (Global System Mobi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82 г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дирование по метод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 несущих по K слот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SM-9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диапазон 900 МГ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90-915 МГц - от БС к абонент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35-960 МГц - обратные кана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один канал - около 0,2 МГц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SM-18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диапазон 1800 МГц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5029200"/>
            <a:ext cx="426708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анковая связ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оговая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T-1327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ифровая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(км) = 4,12   h1+h2 (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30492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16000" y="45086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спективен мет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D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ode Division Multiple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1143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оговая систем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MT-4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пазон 453-468 МГц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6019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43400" y="59432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5943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29440" y="4292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ff"/>
                </a:solidFill>
                <a:uFillTx/>
                <a:latin typeface="Times New Roman"/>
              </a:rPr>
              <a:t>л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19600" y="692280"/>
            <a:ext cx="6863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3 г. – появление  мобильной телефонной связ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80D-3567-4A75-A5B6-3781304CD6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14400" y="914400"/>
            <a:ext cx="6705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оследняя миля» - абонентские лин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DS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 Subscribe Line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848400" cy="2590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-5760" y="1600200"/>
            <a:ext cx="48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DN (Integrated Service Digital Net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канала по 64 кбит/с + один канал 16 кбит/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2514600"/>
            <a:ext cx="59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4495680"/>
            <a:ext cx="769608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Carrieless Amplitude Phase Modulation)  - АМ и ФМ без несущ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DM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screte Multitone Technology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- полоса 1,1 МГц  разделяется 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56 подканалов по 4 кГц. Параллельная передача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AM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дканалам с их предварительным тестирова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7960" y="2819520"/>
            <a:ext cx="480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DSL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пары проводов, ок. 2 кбит/с; 5,4 к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тод CA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DSL на одной паре, 3 к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DS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пара, до 8 кбит/с (1,5 в обр.направл.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,4 км,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 или DM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467480" y="304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7DD-DE3B-40ED-A00A-43516B5ED6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620120" y="152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57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правильности передачи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8640" y="1066680"/>
            <a:ext cx="63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А. Симплексные каналы - коды с исправлением ошиб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160" y="167652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д Хеммин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5760" y="1981080"/>
            <a:ext cx="809604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довое расстояние - число разрядов с несовпадающими значен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ередаваемый код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ядный исходный код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я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полнительный код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, B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поразрядного слож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еров разрядов код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равных 1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100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001+100+110=01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10010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передан код 100001011, 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= 001+110=111 и определяе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шибочный разряд поразрядным сложени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 011+111= 100, т.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й разря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9080" y="472428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В. Дуплексные каналы - обнаружение ошибки и запрос повторной переда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7880" y="5181480"/>
            <a:ext cx="766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клический к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=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m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ть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рядны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исло разрядов образующего полином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один из простых множителе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8C6-C005-4D13-A8B6-01748DEF3D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590920" y="609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чет циклического к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1219320"/>
            <a:ext cx="2438280" cy="26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01101000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1 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43400" y="1219320"/>
            <a:ext cx="3276720" cy="26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01101101   |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 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шибки 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668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1447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DA0-66D0-49F7-A03E-F763B6C9CB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8160" y="1371600"/>
            <a:ext cx="732060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Олифер В.Г., Олифер Н.А. Компьютерные сети. - СПб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тер, 2002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Кульгин М. Технологии корпоративных сетей. - СПб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тер, 200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Норенков И.П., Трудоношин В.А. Телекоммуникацио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и и сети. - М.: МГТУ им. Н.Э.Баумана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C6B-6BBD-490F-B200-A6199210B3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278160" y="167652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533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ы сжатия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990720"/>
            <a:ext cx="723888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Z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ы Лемпеля-Зив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ффмена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овые дан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1752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-символьный алфав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2438280"/>
            <a:ext cx="16002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вол    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       0, 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       0, 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         0,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        0,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         0,0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          0,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        0,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209680" y="2361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09680" y="2438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2743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2133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67280" y="25909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1992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412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67280" y="3505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78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24280" y="3505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3505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14800" y="4038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01208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5488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50320" y="358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93120" y="358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8328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21160" y="411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114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4320" y="4114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60199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2286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4864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2743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705360" y="27432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0" y="2743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87692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333760" y="32004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571640" y="3657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76920" y="3657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943600" y="32004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72200" y="3200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45040" y="220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856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56160" y="256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836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21160" y="35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16440" y="31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54520" y="220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50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62560" y="310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06800" y="3586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72120" y="26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35560" y="3129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2438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4320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73240" y="23623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2160" y="2971800"/>
            <a:ext cx="58932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954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954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00000" y="5084640"/>
            <a:ext cx="769644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LE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Length Encod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-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фические данны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EG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фические данны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PEG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идеоданны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ностное и Дельта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дирование (телеметрия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29440" y="465300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ff"/>
                </a:solidFill>
                <a:uFillTx/>
                <a:latin typeface="Times New Roman"/>
              </a:rPr>
              <a:t>л5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2C0-420F-4CD4-8AE4-DFA07B6798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981800" y="404640"/>
            <a:ext cx="451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окальные вычислительные се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 - Local Area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827360" y="4568760"/>
            <a:ext cx="5715000" cy="21132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83640" y="4111560"/>
            <a:ext cx="35305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пологии - шина, кольцо, звез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9680" y="64911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40320" y="30492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1197000"/>
            <a:ext cx="860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7 г. - Дональд Дэвис (Англия) - первая ЛВ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8 г. - Олаф Содерблюм (Швеция, IBM),   сеть Token R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0 г. - Норман Абрамсон на Гавайских островах   создал се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h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ообраз  Ethernet  и RadioEtherne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3 - 1976 г. Роберт Меткалф (Xero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ет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9 г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да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DI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дартизова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3 г. - 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L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5 г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Ether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2 г. - 10-гигабитна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3A4-EF22-4B7D-8716-AFC6A245D4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44532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511720" y="228600"/>
            <a:ext cx="31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доступа МДКН/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62320" y="8380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91440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209680" y="8380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9144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53080" y="7621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553080" y="9144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90920" y="1143000"/>
            <a:ext cx="304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14600" y="1371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1143000"/>
            <a:ext cx="304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43600" y="1371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6720" y="1143000"/>
            <a:ext cx="304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1371600"/>
            <a:ext cx="4572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743200" y="914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429000" y="914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172200" y="914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1600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572000" y="1752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0" y="1523880"/>
            <a:ext cx="22096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Т -окно столкнов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209680" y="7617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337-90A5-4A01-82DA-2E8D07D952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905120" y="304920"/>
            <a:ext cx="480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380880"/>
            <a:ext cx="4191120" cy="673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ernet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ДКН/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28800" y="609588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990720"/>
            <a:ext cx="3962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0320" y="2303640"/>
            <a:ext cx="296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3581280"/>
            <a:ext cx="434340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RadioEtherne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IEEE 802.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HSS и DSSS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ы расширения спектра сигнала - лучше защита, помехоустойчивость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b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 Мбит/с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,4 МГц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a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4 Мбит/с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 МГц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g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4 Мбит/с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,4 МГ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120" y="12952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19051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1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480" y="1295280"/>
            <a:ext cx="70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амбула - ограничитель - адреса - размер кадра - данные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6640" y="990720"/>
            <a:ext cx="2046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уктура кадра: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3200400" cy="24116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5559120" y="312408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ase-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(звезд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07200" y="3048120"/>
            <a:ext cx="32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ase-5,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ase-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(шин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56080" y="152388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                         1                  6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               2               46…1500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2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4872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9200" y="1981080"/>
            <a:ext cx="7669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-байтовые МАС-адреса; ограничение на длину кадра снизу - для фикс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ов обоими конфликтующими узл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8800" y="266688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риант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389800" y="256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ff"/>
                </a:solidFill>
                <a:uFillTx/>
                <a:latin typeface="Times New Roman"/>
              </a:rPr>
              <a:t>л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7F2-9056-4BAF-A63D-0FBC5B9798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666080" y="533520"/>
            <a:ext cx="52023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сокоскоростные варианты Etherne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Base-X; Gigabit Ethernet; 10GB Ethern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990720" y="1295280"/>
          <a:ext cx="29480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29480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4412880" y="1676520"/>
            <a:ext cx="4580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Times New Roman"/>
              </a:rPr>
              <a:t>Fast Ethernet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(IEEE 802.3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0Base-T4 - 4 пары кат. 3 или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0Base-ТX - 2 экран. па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д 4В/5В, расстояния около 100-200 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Times New Roman"/>
              </a:rPr>
              <a:t>Gigabit Ethernet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IEEE 802.3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дь (25 м) или ВОЛС (850 нм - 500 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00 нм - 5 км).  Код 8В/6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Times New Roman"/>
              </a:rPr>
              <a:t>10GB Ethernet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IEEE 802.3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ЛС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50 нм - до 300 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00 нм - 9,7 к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нм - до 40 км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2B3-2BC2-41F8-92C5-28F29CD192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828800" y="762120"/>
            <a:ext cx="3429000" cy="61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ken Ring (IEEE 802/5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керный метод досту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114800" cy="16225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409920" cy="15526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975040" y="2286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ьцевые Л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0880" y="1600200"/>
            <a:ext cx="4191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раничитель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-T-M-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раничи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   1    1    3   б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981080" y="2057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20574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90720" y="2895480"/>
            <a:ext cx="2361960" cy="2133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240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5105520"/>
            <a:ext cx="38088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2819520"/>
            <a:ext cx="38088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9480" y="3276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3505320"/>
            <a:ext cx="38088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7200" y="4191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880" y="4419720"/>
            <a:ext cx="38124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52680" y="2819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76720" y="3048120"/>
            <a:ext cx="38088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81280" y="3733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05320" y="3962520"/>
            <a:ext cx="38088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4800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5029200"/>
            <a:ext cx="38124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294920" y="3352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97180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352320" y="38862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895120" y="4800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19320" y="26668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85800" y="41907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14300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48520" y="4876920"/>
            <a:ext cx="106668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48520" y="4876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4952880" y="5638320"/>
            <a:ext cx="106668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59600" y="5257800"/>
            <a:ext cx="3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6200000">
            <a:off x="7238880" y="5714640"/>
            <a:ext cx="106668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45600" y="5334120"/>
            <a:ext cx="3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15000" y="487692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7737480" y="50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386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4360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94360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18148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67280" y="487692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864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8640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772400" y="6400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08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14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807732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814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814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672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авка реги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22960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1520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1992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6172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ритеты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11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01,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48120" y="46864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. ст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) Т: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) P:=R, R:=0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: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82720" y="266688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:=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280" y="26668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:=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4191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 =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5240" y="15228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986-DCE4-4218-9F76-8ED977024D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6172200" y="1828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6705720" cy="2954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6" name=""/>
          <p:cNvSpPr/>
          <p:nvPr/>
        </p:nvSpPr>
        <p:spPr>
          <a:xfrm>
            <a:off x="2208960" y="533520"/>
            <a:ext cx="4371840" cy="152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Fiber Distributed Data Interf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ЛС;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 Мбит/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200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д  4В/5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76520" y="51814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кер     Пакет1     Пакет2    . . . .    Пакет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76520" y="5181480"/>
            <a:ext cx="4952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1952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528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56272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590920" y="5638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791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исывание нового пак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DCD-7C92-4A5B-B1B7-E229F0A06F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46120" y="220968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Base-X; Gigabit Ethernet; 10GB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134080" y="2895480"/>
            <a:ext cx="45057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ОЛС вместо витой пар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gabit Etherne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IEEE 802.3z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00Base-SX - многомодовая (550 м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00Base-LX - одномодовая (5000 м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00BaseТ - витая пара (25 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или 4 пары провод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диров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B/5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B/6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57400" y="685800"/>
            <a:ext cx="5105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0VG-AnyLAN (стандарт IEEE 802.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0 Мбит/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451-3037-4E72-8D21-1038FF979F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31514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506400" y="6094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с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173800" y="404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л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3F6-D639-4833-8D27-2A1BD08EE9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3876840" y="380880"/>
            <a:ext cx="5267160" cy="38862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828960" cy="22287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200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та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95280" y="3657600"/>
            <a:ext cx="6324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окировка: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a2-b2-c4-d3, a3-b3-c1-d2 и нельзя соединить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a1-d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Условие отсутствия блокировки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k &gt;= 2*n-1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гд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N/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48520" y="1676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38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7742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62520" y="5867280"/>
            <a:ext cx="38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3960" y="243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2120" y="8380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транственные и временны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1814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арамет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1. Скорость фильтрации;  2. Скорость продвиж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ропускная способность;    4. Задерж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ержка - просмотр адресной таблицы, очистка буфера или передача в выходной пор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тация сквозная и с буфериз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D3B-7E0C-4D0A-84E1-179353704F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35160" y="45720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ическое обеспечение СА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4663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92960" y="152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ff"/>
                </a:solidFill>
                <a:uFillTx/>
                <a:latin typeface="Times New Roman"/>
              </a:rPr>
              <a:t>л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455-2790-4C81-AD1A-10388C04CC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2590920" y="457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шрутиза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1371600"/>
            <a:ext cx="4724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достатки мостов и коммутатор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едопустимость петел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широковещательный штор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ранение недостатк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иртуальные ЛВ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маршрутизаторы или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мутаторы 3-го уров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4114800"/>
            <a:ext cx="8001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а маршрутиза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 назнач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 следующего маршрутизатор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 выходного пор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тояние до узла назначения (в хопах или единицах времен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5867280" y="2209680"/>
          <a:ext cx="2476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9680"/>
                    <a:ext cx="2476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67057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FFB-6ADE-4102-B50F-200252AF38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1514520" cy="18572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1263600" y="404640"/>
            <a:ext cx="58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ткая история вычислительных с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4560" y="979200"/>
            <a:ext cx="85694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1 г. - Леонард Клейнрок, коммутация паке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7 г. - Дональд Дэвис (Англия) - первая Л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9 г. -  сеть ARPANET,  прообраз  Интер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8 г. - Олаф Содерблюм (Швеция, IBM),   сеть Token 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3 г. – создание  IE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0 г. - Норман Абрамсон на Гавайских островах   создал се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h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ообраз  Ethernet  и RadioEthernet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2 г.-  Рэй Томлисон, электронная поч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3 г. – появление  мобильной телефонной связ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720" y="3715200"/>
            <a:ext cx="527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3 - 1976 г. Роберт Меткалф (Xero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ет Eth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5080" y="595008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.Меткал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95200" y="4363920"/>
            <a:ext cx="6669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5 г. - сеть Decnet  (DEC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8 г. - семиуровневая моде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9 г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да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DI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дартизова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82 г.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M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87 г. – канал  T-1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3 г. - 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L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1995 г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Ether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2 г. - 10-гигабитна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D38-75BA-463F-A77E-F887E88D35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557280" y="1633680"/>
          <a:ext cx="7748640" cy="80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33680"/>
                    <a:ext cx="7748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609480" y="2438280"/>
          <a:ext cx="7539120" cy="581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438280"/>
                    <a:ext cx="75391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3352680" y="1066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я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B91-814F-4324-874F-EBBDECC9CD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668320" y="38088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я в сетя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90720" y="984240"/>
            <a:ext cx="7696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6 бай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- номер сетевой платы, используется в ЛВ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Pv4 -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4 байта, в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Pv6 -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6 бай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тевые адреса компьютеров (хостов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wwcdl.bmstu.r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мена пользова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P-имя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IP-адрес с помощь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S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MAC-адрес с помощью AR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P-адрес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v4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19320" y="411480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AC-адре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73400" y="3048120"/>
            <a:ext cx="106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90920" y="31240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625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7672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7339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16400" y="33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90920" y="342900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9625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5680" y="3352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90920" y="373392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9625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76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0" y="3733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515680" y="36576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1604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6040" y="3657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19520" y="4191120"/>
            <a:ext cx="3962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29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10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958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138680" y="5562720"/>
            <a:ext cx="31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реса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v6 - 128-би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14640" y="4648320"/>
            <a:ext cx="722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каждого хоста имеется адресна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блица - соответств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 и MAC адресами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3A3-18B5-4EC3-8335-C1D47578DF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30128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514600" y="609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7D5-7428-4A5B-A778-A46B3668FB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391000" cy="31050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2444760" y="53352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ы маршру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" y="1143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Беллмана-Фор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RIP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outing Information Protoco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02B-E241-4999-B0DD-1DE6A31FD7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5" name=""/>
          <p:cNvGraphicFramePr/>
          <p:nvPr/>
        </p:nvGraphicFramePr>
        <p:xfrm>
          <a:off x="838080" y="838080"/>
          <a:ext cx="944892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9448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990720" y="3267000"/>
          <a:ext cx="8504280" cy="3591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267000"/>
                    <a:ext cx="850428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4572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горитм (протокол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PF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Open Shortest Path Fir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461080" y="18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Times New Roman"/>
              </a:rPr>
              <a:t>л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1B7-B776-4695-AAAE-0C8D7DD173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279240" y="189000"/>
            <a:ext cx="178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ет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16080" y="49086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003480"/>
            <a:ext cx="39625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 отправителя - 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 получателя - 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 позиции (номер перв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йта в поле данных) - 3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тверждение (номер перв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ще не полученного байта) - 3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вление - 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мер окна -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знаки - 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ции - 2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олнитель -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90480" y="2851200"/>
            <a:ext cx="1662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8160" y="3232080"/>
            <a:ext cx="3657600" cy="32004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8160" y="3689280"/>
            <a:ext cx="36576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21000" y="3232080"/>
            <a:ext cx="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44480" y="3308400"/>
            <a:ext cx="16002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рт отправи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96960" y="3308400"/>
            <a:ext cx="16765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рт получа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8160" y="4070520"/>
            <a:ext cx="36576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20800" y="3765600"/>
            <a:ext cx="30477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 сегмента (адрес 1-го байт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8160" y="4527720"/>
            <a:ext cx="36576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20800" y="4222800"/>
            <a:ext cx="32763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тверждение (ожидаемый адрес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8160" y="4908600"/>
            <a:ext cx="36576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21000" y="4527720"/>
            <a:ext cx="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20800" y="4603680"/>
            <a:ext cx="14475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496960" y="4603680"/>
            <a:ext cx="16765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ер  ок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8160" y="5365800"/>
            <a:ext cx="36576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421000" y="4908600"/>
            <a:ext cx="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0800" y="4984920"/>
            <a:ext cx="15238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. к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496960" y="4984920"/>
            <a:ext cx="18288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олнит. 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58880" y="5442120"/>
            <a:ext cx="990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582560" y="5899320"/>
            <a:ext cx="1143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5760" y="4756320"/>
            <a:ext cx="0" cy="6858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20800" y="4070520"/>
            <a:ext cx="327636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46160" y="234936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токол Т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1187280" y="576360"/>
            <a:ext cx="6697800" cy="18000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26920" y="4508640"/>
            <a:ext cx="33847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4360" y="5805360"/>
            <a:ext cx="367164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C2D-FB8D-46DD-84CC-866C6A3251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3048120" y="304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38080" y="914400"/>
            <a:ext cx="7467840" cy="17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становление соединения - трехшаговая процедур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зел А  - указывает номер своего первого байта, узел В подтверждает  согласие и указывает номер своего первого байта, узел А подтверждает соглас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35268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9548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зел 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68520" y="220968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зел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5280" y="2590920"/>
            <a:ext cx="18921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 на прям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единение,  Б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99880" y="2971800"/>
            <a:ext cx="24238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ие, запрос 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тное соединение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об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3352320" y="342900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00200" y="3581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ие, 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об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352680" y="403848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43000" y="4114800"/>
            <a:ext cx="2286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ача, начиная с Б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 более Б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52680" y="44197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5000" y="5562720"/>
            <a:ext cx="72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дура медленного старта - рост окна до возникновения отка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52680" y="2743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982-E292-42FD-BAE9-D544C7B433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5640840" y="30492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токол I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8600" y="3200400"/>
            <a:ext cx="922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рс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ина заголовка -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 сервиса (приоритет,треб. к задержке, скорости, надежности  и стоимости) -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ина информационной части - 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дентификация (номер дейтаграммы) - 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мер фрагмента - 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емя жизни -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 протокола на транспортном уровне -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заголовка -1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 источника - 3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 получателя - 3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ции - 3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064600" y="152280"/>
            <a:ext cx="15494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43000" y="990720"/>
            <a:ext cx="36576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5480" y="533520"/>
            <a:ext cx="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95480" y="990720"/>
            <a:ext cx="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19320" y="2819520"/>
            <a:ext cx="36576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133720" y="2743200"/>
            <a:ext cx="99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05120" y="533520"/>
            <a:ext cx="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57400" y="609480"/>
            <a:ext cx="838080" cy="52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81080" y="533520"/>
            <a:ext cx="990720" cy="39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п серви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971800" y="609480"/>
            <a:ext cx="16765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ая дли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3000" y="990720"/>
            <a:ext cx="17524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мер дейта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71800" y="990720"/>
            <a:ext cx="17524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сто фоагмен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1371600"/>
            <a:ext cx="762120" cy="3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мя жиз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905120" y="1371600"/>
            <a:ext cx="914400" cy="37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ансп. протоко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971800" y="1371600"/>
            <a:ext cx="18288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. код заголов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28800" y="1828800"/>
            <a:ext cx="228600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P адрес отправи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2209680"/>
            <a:ext cx="243864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P адрес получа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0" y="2514600"/>
            <a:ext cx="990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43000" y="990720"/>
            <a:ext cx="37339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43000" y="457200"/>
            <a:ext cx="77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600200" y="533520"/>
            <a:ext cx="1219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1960" y="380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рс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8600" y="83808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голов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23880" y="533520"/>
            <a:ext cx="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609480"/>
            <a:ext cx="228600" cy="763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1143000" y="914040"/>
            <a:ext cx="0" cy="6094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066680" y="761760"/>
            <a:ext cx="609840" cy="1522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533520"/>
            <a:ext cx="45720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143000" y="533520"/>
            <a:ext cx="3809880" cy="25905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2209680"/>
            <a:ext cx="38098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43000" y="2514600"/>
            <a:ext cx="38098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143000" y="1295280"/>
            <a:ext cx="38098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66680" y="1752480"/>
            <a:ext cx="381024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05120" y="1295280"/>
            <a:ext cx="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95480" y="609480"/>
            <a:ext cx="0" cy="12193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57D-B356-4E08-A910-70444545B3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53320" y="38088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ычислительных с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6880" y="1219320"/>
            <a:ext cx="24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Локальны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риториальны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рпоратив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3400" y="121932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 Клиент/сервер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норангов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680" y="1219320"/>
            <a:ext cx="305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 Коммутация канал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мутация сообщ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мутация паке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657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90720" y="3276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32004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14800" y="304776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2666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4382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5840" y="2590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657600" y="3429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352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34290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200400"/>
            <a:ext cx="3808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5334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5410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914400" y="5562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54864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38480" y="533376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4952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362320" y="563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9520" y="4876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81280" y="57150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5638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57150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486400"/>
            <a:ext cx="38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648320"/>
            <a:ext cx="38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657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990720" y="3276720"/>
            <a:ext cx="129528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200400"/>
            <a:ext cx="11430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038480" y="3047760"/>
            <a:ext cx="10670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5334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410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14400" y="55627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54864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038480" y="533376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5638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5486400"/>
            <a:ext cx="38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334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410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14400" y="5562720"/>
            <a:ext cx="129528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486400"/>
            <a:ext cx="11430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62520" y="5333760"/>
            <a:ext cx="10666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5560" y="2666880"/>
            <a:ext cx="17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ммут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на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5560" y="4800600"/>
            <a:ext cx="17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ммут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ке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35680" y="2362320"/>
            <a:ext cx="383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5805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D3D-F37D-4119-B1CF-A81A3C3FC3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288160" y="91440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токолы сте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23800" y="1424160"/>
            <a:ext cx="770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ме TCP и 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отокол транспортного уровня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UD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без установления соединения, только номера пор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CR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заголов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отоколы управления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CMP и SNM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CMP: функции определения достижимости узлов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ия времени доставки, сигнализация о перегрузк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MP: агент-менеджер, сбор статистики, информац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 состоянии сет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отокол разрешения адресов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соответствие IP и MAC адресо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173800" y="404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ff"/>
                </a:solidFill>
                <a:uFillTx/>
                <a:latin typeface="Times New Roman"/>
              </a:rPr>
              <a:t>л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C57-5CD4-4EC7-BCDF-5C32780539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673640" y="609480"/>
            <a:ext cx="533484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ерации над  пакетами в маршрутизатор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62320" y="1219320"/>
            <a:ext cx="3047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дение таблицы маршрут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" y="3048120"/>
            <a:ext cx="3809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ем кадра и отбрасывание канального загол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447920" y="220968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времени жи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191120" y="2209680"/>
            <a:ext cx="2743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след. маршрутизато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0" y="3048120"/>
            <a:ext cx="3505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заголовка канальн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666880" y="1980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343400" y="1981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909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5146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81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0880" y="4114800"/>
            <a:ext cx="3581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нальный уровень входного по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4191120"/>
            <a:ext cx="4114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нальный уровень выходного по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62120" y="4648320"/>
            <a:ext cx="60195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RP-таблицы - соответствие МАС-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адре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3520" y="5181480"/>
            <a:ext cx="81532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аждом узле формируются пакеты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-именами; с помощью DN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танавливаетс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; с помощью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P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яется МАС-адрес и формируется заголовок канального уровня.  Если 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P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е нет адреса, то посылаетс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P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ро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467480" y="152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F07-371E-4DCC-94B2-9C2B9BDBF4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295280" y="304920"/>
            <a:ext cx="6782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аимодействие процессов в сетя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4038480"/>
            <a:ext cx="792504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410080" cy="324648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610920" y="4191120"/>
            <a:ext cx="8242560" cy="13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становление соедин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 свой номер порта 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я получателя -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анспортный уровень -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 к DNS, получаем IP-адрес --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етевой уровень --&gt; обращение к ARP-таблице: или получаем МАС-адрес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посылается ARP-запрос, при неудаче передача в сеть чере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 маршрутизато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58F-240D-46BD-99D6-3443A4BF8B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1571400" cy="190476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539640" y="981000"/>
            <a:ext cx="860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7 г. - ARPANET преобразуется в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9 г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ек протоколов TCP/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83 г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 Intern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стек протоколов TCP/I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 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0-е годы  - язык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ндар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87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81200" y="2779200"/>
            <a:ext cx="6566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89 г.  Тим Бернерс-Ли (Англия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пецификации URL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отокол HTT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зык разметки HT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0 г. - сеть  Рел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3 г. сеть EUnet/Rel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ключена 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3 г. Марк Андреесен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графиче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аузер   Мозаик, созда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scap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4 г. - консорциум W3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6 г. - язы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33080" y="333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51640" y="49402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.Бернерс-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9CF-0613-46C4-83C1-0AB546E05F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1" name=""/>
          <p:cNvGraphicFramePr/>
          <p:nvPr/>
        </p:nvGraphicFramePr>
        <p:xfrm>
          <a:off x="843120" y="1224000"/>
          <a:ext cx="7905600" cy="398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224000"/>
                    <a:ext cx="790560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3733920" y="609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015-4EE0-417B-867C-3DB4285E3A1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990720" y="533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ти Х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8080" y="1066680"/>
            <a:ext cx="73915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ть надежная, но низкоскоростная (до 64 кб/с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онное управл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тановление соедин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троль правильности в каждо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ммутатор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токол канального уровня - LAP-B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ческого уровня - Х.2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066680" y="3276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9480" y="3733920"/>
            <a:ext cx="74678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постоянных и коммутируемых виртуальных соединений (преобладают постоянные соединен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идентификатор соединения отведено 10 бит, тогда только 1024 одновременных соединений (но возможно расширение поля идентификатор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раметры качества обслуживания: скорость и ограничение пульсаций трафика (при превышении - ликвидация кадров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543800" y="22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244-CD3D-459E-AF91-21313754E3E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1600" y="990720"/>
            <a:ext cx="5562720" cy="254772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2971800" y="380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ТМ се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0920" y="30492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ти ATM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synchronous Transfer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14400" y="3733920"/>
            <a:ext cx="739152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ый размер кадра (ячейки) 53 байт (заголовок 5 байт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истическое мультиплексирова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тверждение правильности - только от последнего кадра сообщения или вообще без подтвержд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с установлением соеди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29880" y="5638680"/>
            <a:ext cx="72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голоса - задержка определяется временем пакет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ременем упаковки «голоса» в 48-байтные ячейк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57440" y="3333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ff"/>
                </a:solidFill>
                <a:uFillTx/>
                <a:latin typeface="Times New Roman"/>
              </a:rPr>
              <a:t>л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1E0-0EAB-4B70-91C6-D3435C43DA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992880" y="1219320"/>
            <a:ext cx="72457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A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atio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- разделение информ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48-байтные ячейк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L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льтимедийный трафи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L3/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льсирующий трафи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L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данные вычислительного характе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ие соединения и присоединение заголовк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правление (4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PI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(24) - тип данных (3)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оритет потери пакетов (1) - контроль заголовка (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ие и тип данных - тип пакета, индикация перегрузо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ость яче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VPI (Virtual Path Identifier) и VCI (Virtual Channel Identifi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начаются при установлении соедин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оль - по Хеммингу, с его помощью устанавливаю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ницы яче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76720" y="53352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0B3-DA86-40A2-B9C7-5D6860DA1CD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295280" y="685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околы LAN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over-ATM, MPO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371600" y="1447920"/>
          <a:ext cx="594360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594360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B8A-79D9-4F9F-8D41-043314639DC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143000" y="38088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4876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68200" y="2286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ff"/>
                </a:solidFill>
                <a:uFillTx/>
                <a:latin typeface="Times New Roman"/>
              </a:rPr>
              <a:t>л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457200" y="1752480"/>
          <a:ext cx="8153280" cy="24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1532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3124080" y="1066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7B0-84D0-4942-B8BB-0CD3B523931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232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765000"/>
            <a:ext cx="6858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лонная модель взаимосвязи открытых сист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133720"/>
            <a:ext cx="266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Физическ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Канальны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Сетево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Транспортны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Сеансовы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Презентационны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Приклад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5639040" cy="2438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91520" y="304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1080" y="11253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78 г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095-DFF1-4841-B1B0-19A4031439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5120" y="380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ы  передачи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838080"/>
            <a:ext cx="320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водные:    медь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аксиальный кабел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лстый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ck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нки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hi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товолокно - ВОЛС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380988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426708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4038480"/>
            <a:ext cx="2514600" cy="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3505320"/>
            <a:ext cx="0" cy="99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510552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556272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5334120"/>
            <a:ext cx="2514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800600"/>
            <a:ext cx="0" cy="99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981080" y="5105160"/>
            <a:ext cx="1143000" cy="22860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5105520"/>
            <a:ext cx="914400" cy="45720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38480" y="5486400"/>
            <a:ext cx="381240" cy="763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334120"/>
            <a:ext cx="1523880" cy="228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81280" y="5257440"/>
            <a:ext cx="83844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105520"/>
            <a:ext cx="190512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105520"/>
            <a:ext cx="5335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з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760" y="51055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тоди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657600"/>
            <a:ext cx="4038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на волны  1300 или 1550 нм с затуханием 0,38 или 0,24 дБ/км (до 50 км без ретрансляции), диаметр сердечника - несколько м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5029200"/>
            <a:ext cx="3657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50 нм, затухание 3,5 дБ/км (до 5 км).;  диаметр сердечника несколько десятков мк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9160" y="3200400"/>
            <a:ext cx="16574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номодова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5120" y="4495680"/>
            <a:ext cx="1797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ногомодова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4560" y="1143000"/>
            <a:ext cx="168768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тегории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  (ST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1143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нение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лефонные ли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4 Мбит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-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 100 Мбит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 200 Мбит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60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219320"/>
            <a:ext cx="0" cy="22096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1219320"/>
            <a:ext cx="33526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8200" y="1219320"/>
            <a:ext cx="0" cy="22096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429000"/>
            <a:ext cx="33526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1219320"/>
            <a:ext cx="0" cy="22096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1447920"/>
            <a:ext cx="33526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83808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Unshielded Twist 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3600" y="9907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ита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0666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057400" y="12193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228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89840" y="401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ff"/>
                </a:solidFill>
                <a:uFillTx/>
                <a:latin typeface="Times New Roman"/>
              </a:rPr>
              <a:t>л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FB1-89EC-4500-9A7C-22D51592A0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219320"/>
            <a:ext cx="8610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паз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Длины волн, 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Частоты, ГГ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Приме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ровый (УКВ)     10…1                     0,03…0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циметров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1..0,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0,3.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бильная связь, Т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ЛВ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нтиметров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0,1..0,01                  3..30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путниковая связь, РРЛ,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ЛВС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WA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ллиметров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0,01..0,0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30..300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W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ракрас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0,001..7,5*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3*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4*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Л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имый с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7,5...4,0)*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(4,0...7,5)*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3808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7680" y="4572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диокан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76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419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572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*  BWA (Broadband Wireless Acce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840" y="5105520"/>
            <a:ext cx="74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увеличением частоты растет затухание (уменьшается дальность прям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ачи), но увеличивается число кана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BF6-624F-477B-B6E2-D5C0F63294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52480" y="380880"/>
            <a:ext cx="47008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тавление двоичной информ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виде электрических сигнал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9280" y="2514600"/>
            <a:ext cx="19368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2309760"/>
            <a:ext cx="167652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71600" y="5205240"/>
            <a:ext cx="5257800" cy="1371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4520" y="4724280"/>
            <a:ext cx="3355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нчестерское код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4191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38095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5053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 0   1  0   0  0  1   1   1   0  1  0  1   1  0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4495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432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4495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4191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4191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4191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28195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полярный код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I (Alternative Mark Inver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3276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вень сигн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7480" y="419112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60280" y="114300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ставление двумя уровн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8640" y="1676520"/>
            <a:ext cx="377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 0   1  0   0  0  1   1   1   0   1   0  1   1  0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25146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40120" y="25146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840" y="144792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вень сигн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2514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43828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25146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5268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2057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34340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20574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80060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2514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48640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0574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0574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BE9-2CF9-4703-AB73-87E3BED6E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1447920"/>
            <a:ext cx="5105520" cy="1340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б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ло перепадов/врем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1/(3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ло бит/врем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F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&lt;= 1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гнал/помех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2286000" cy="167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2286000" y="914400"/>
            <a:ext cx="4092480" cy="32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ула Хартли-Шенн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3352680"/>
            <a:ext cx="3733920" cy="93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бит в одном перепаде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исло уровней квантования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+ сигнал/помех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3809880"/>
            <a:ext cx="19368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4419720"/>
            <a:ext cx="193680" cy="40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276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029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724280"/>
            <a:ext cx="10666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9528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5627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2485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9343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19720" y="46476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19720" y="4343400"/>
            <a:ext cx="75960" cy="763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419720" y="39618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19720" y="35046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434340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343400"/>
            <a:ext cx="4572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4343400"/>
            <a:ext cx="0" cy="3808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724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638680" y="3505320"/>
            <a:ext cx="0" cy="121896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505320"/>
            <a:ext cx="60984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505320"/>
            <a:ext cx="0" cy="8380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434340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124080"/>
            <a:ext cx="16761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ень сиг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3886200"/>
            <a:ext cx="304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2880" y="3886200"/>
            <a:ext cx="3088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7080" y="3429000"/>
            <a:ext cx="3088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343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2760" y="1828800"/>
            <a:ext cx="66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ин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www.rk6.ru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D90-1A93-4B7B-9DBB-737CA431CC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06:30:14Z</dcterms:created>
  <dc:creator>Yuri Norenkov</dc:creator>
  <dc:description/>
  <dc:language>en-US</dc:language>
  <cp:lastModifiedBy>Thi</cp:lastModifiedBy>
  <dcterms:modified xsi:type="dcterms:W3CDTF">2005-03-10T15:55:57Z</dcterms:modified>
  <cp:revision>105</cp:revision>
  <dc:subject/>
  <dc:title>Заголовок слайда отсутствует</dc:title>
</cp:coreProperties>
</file>